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18D5-BA2B-4435-B420-6A802EE9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312-BEB3-4F4D-832F-D1CEB884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F3E5-D290-4A11-A070-17A030A2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D48-22CB-43D7-BAB3-4F105F92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1F2-BDCB-48B6-AED1-A4FA5E55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5ED-8EFB-488D-9F8A-94F9196C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CB52-6846-4D65-BEFD-EB5F56DB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A43E-83B9-4B22-AEC0-E55197D0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8EC-7368-40A1-8E05-FD06968B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826-2602-420E-AEC8-5113FC1B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1F9E-93C6-499C-975D-0E9DB7C0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7BC-51E9-443C-BB97-0D2D9EEF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0E30-5985-4306-93D3-7FAF8A1AE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8.xml"/><Relationship Id="rId3" Type="http://schemas.openxmlformats.org/officeDocument/2006/relationships/slide" Target="slide6.xml"/><Relationship Id="rId4" Type="http://schemas.openxmlformats.org/officeDocument/2006/relationships/slide" Target="slide4.xml"/><Relationship Id="rId5" Type="http://schemas.openxmlformats.org/officeDocument/2006/relationships/slide" Target="slide12.xml"/><Relationship Id="rId6" Type="http://schemas.openxmlformats.org/officeDocument/2006/relationships/slide" Target="slide22.xml"/><Relationship Id="rId7" Type="http://schemas.openxmlformats.org/officeDocument/2006/relationships/slide" Target="slide32.xml"/><Relationship Id="rId8" Type="http://schemas.openxmlformats.org/officeDocument/2006/relationships/slide" Target="slide42.xml"/><Relationship Id="rId9" Type="http://schemas.openxmlformats.org/officeDocument/2006/relationships/slide" Target="slide52.xml"/><Relationship Id="rId10" Type="http://schemas.openxmlformats.org/officeDocument/2006/relationships/slide" Target="slide14.xml"/><Relationship Id="rId11" Type="http://schemas.openxmlformats.org/officeDocument/2006/relationships/slide" Target="slide24.xml"/><Relationship Id="rId12" Type="http://schemas.openxmlformats.org/officeDocument/2006/relationships/slide" Target="slide34.xml"/><Relationship Id="rId13" Type="http://schemas.openxmlformats.org/officeDocument/2006/relationships/slide" Target="slide44.xml"/><Relationship Id="rId14" Type="http://schemas.openxmlformats.org/officeDocument/2006/relationships/slide" Target="slide54.xml"/><Relationship Id="rId15" Type="http://schemas.openxmlformats.org/officeDocument/2006/relationships/slide" Target="slide16.xml"/><Relationship Id="rId16" Type="http://schemas.openxmlformats.org/officeDocument/2006/relationships/slide" Target="slide36.xml"/><Relationship Id="rId17" Type="http://schemas.openxmlformats.org/officeDocument/2006/relationships/slide" Target="slide46.xml"/><Relationship Id="rId18" Type="http://schemas.openxmlformats.org/officeDocument/2006/relationships/slide" Target="slide56.xml"/><Relationship Id="rId19" Type="http://schemas.openxmlformats.org/officeDocument/2006/relationships/slide" Target="slide28.xml"/><Relationship Id="rId20" Type="http://schemas.openxmlformats.org/officeDocument/2006/relationships/slide" Target="slide38.xml"/><Relationship Id="rId21" Type="http://schemas.openxmlformats.org/officeDocument/2006/relationships/slide" Target="slide58.xml"/><Relationship Id="rId22" Type="http://schemas.openxmlformats.org/officeDocument/2006/relationships/slide" Target="slide20.xml"/><Relationship Id="rId23" Type="http://schemas.openxmlformats.org/officeDocument/2006/relationships/slide" Target="slide30.xml"/><Relationship Id="rId24" Type="http://schemas.openxmlformats.org/officeDocument/2006/relationships/slide" Target="slide50.xml"/><Relationship Id="rId25" Type="http://schemas.openxmlformats.org/officeDocument/2006/relationships/slide" Target="slide40.xml"/><Relationship Id="rId26" Type="http://schemas.openxmlformats.org/officeDocument/2006/relationships/slide" Target="slide60.xml"/><Relationship Id="rId2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581508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28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228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p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228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228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oca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48720" y="228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8006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80988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8195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8288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18288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18288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18288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18288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4680" y="18288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28195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8195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28195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28195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924680" y="28195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80988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380988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380988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380988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924680" y="380988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48006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48006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8006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48006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24680" y="4800600"/>
            <a:ext cx="914400" cy="73836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6747" h="21600">
                <a:moveTo>
                  <a:pt x="0" y="0"/>
                </a:moveTo>
                <a:lnTo>
                  <a:pt x="26747" y="0"/>
                </a:lnTo>
                <a:lnTo>
                  <a:pt x="26747" y="21600"/>
                </a:lnTo>
                <a:lnTo>
                  <a:pt x="0" y="21600"/>
                </a:lnTo>
                <a:close/>
              </a:path>
              <a:path fill="lightenLess" w="26747" h="21600">
                <a:moveTo>
                  <a:pt x="0" y="0"/>
                </a:moveTo>
                <a:lnTo>
                  <a:pt x="26747" y="0"/>
                </a:lnTo>
                <a:lnTo>
                  <a:pt x="25347" y="1400"/>
                </a:lnTo>
                <a:lnTo>
                  <a:pt x="1400" y="1400"/>
                </a:lnTo>
                <a:close/>
              </a:path>
              <a:path fill="darken" w="26747" h="21600">
                <a:moveTo>
                  <a:pt x="26747" y="0"/>
                </a:moveTo>
                <a:lnTo>
                  <a:pt x="26747" y="21600"/>
                </a:lnTo>
                <a:lnTo>
                  <a:pt x="25347" y="20200"/>
                </a:lnTo>
                <a:lnTo>
                  <a:pt x="25347" y="1400"/>
                </a:lnTo>
                <a:close/>
              </a:path>
              <a:path fill="darkenLess" w="26747" h="21600">
                <a:moveTo>
                  <a:pt x="26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7" y="20200"/>
                </a:lnTo>
                <a:close/>
              </a:path>
              <a:path fill="lighten" w="26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57913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7913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7913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57913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4680" y="57913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1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*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*7=2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2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cramble the word                                                                uosx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x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2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spell my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2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no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, place,thing, or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2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cramble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tae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1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*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2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is a ver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sk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3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as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id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3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3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JEOPAR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nvented electrici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3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Edi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3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3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3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is an opinion or a f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like electr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3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*5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3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lectricity danger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3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4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efinition for anxi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4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4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efinition of cornucop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4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n of plen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4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efinition of maiz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4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n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4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efinition of pilgri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4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eans  traveler, wanderer, foreig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1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/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4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fe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4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festive ceremo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5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JEOPAR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econd planet from the s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5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5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air we brea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5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5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planets are in our Solar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m on your white bo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5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5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penguins live in the north po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5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/8=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5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lor is your blood in your body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5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6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your reading story last we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 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cket in time squ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6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Baudelaire’s na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 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et, Klas,Su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6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ouse's name in the cricket in time squ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c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6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the bad g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tory “Series of Unfortunate Event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Ol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1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/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6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Violets’ aunts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0 6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nt Josep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/4=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1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*22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0 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*22=2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5:11:57Z</dcterms:created>
  <dc:creator>WHS</dc:creator>
  <dc:description/>
  <dc:language>en-US</dc:language>
  <cp:lastModifiedBy>WHS</cp:lastModifiedBy>
  <dcterms:modified xsi:type="dcterms:W3CDTF">2006-11-29T17:27:06Z</dcterms:modified>
  <cp:revision>13</cp:revision>
  <dc:subject/>
  <dc:title>Slide 1</dc:title>
</cp:coreProperties>
</file>