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737B-9F1D-443D-B204-1821B8254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2411-F4B9-4EAE-AE7D-A82D3FCB6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E036-8C18-4FC1-964F-3007751E5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581B-D7A3-420B-AA67-B97F36193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BBA2-247D-4C46-B69A-D24822970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DD42-BC59-4590-B31A-D5323D000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F309-2FBB-4300-AD0E-A1022D5B6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2E9A-923C-4955-8E7B-C00379B33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3CA3-C1A2-4857-83FF-519CD9DB8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A95D-C686-404E-888D-94B40C28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5376-C541-4155-A5B1-F56952CD5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55B4-D996-488C-9C95-5A302FE45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E32AD-7E66-4C88-8176-5752B0CDBF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8.xml"/><Relationship Id="rId3" Type="http://schemas.openxmlformats.org/officeDocument/2006/relationships/slide" Target="slide6.xml"/><Relationship Id="rId4" Type="http://schemas.openxmlformats.org/officeDocument/2006/relationships/slide" Target="slide4.xml"/><Relationship Id="rId5" Type="http://schemas.openxmlformats.org/officeDocument/2006/relationships/slide" Target="slide12.xml"/><Relationship Id="rId6" Type="http://schemas.openxmlformats.org/officeDocument/2006/relationships/slide" Target="slide22.xml"/><Relationship Id="rId7" Type="http://schemas.openxmlformats.org/officeDocument/2006/relationships/slide" Target="slide32.xml"/><Relationship Id="rId8" Type="http://schemas.openxmlformats.org/officeDocument/2006/relationships/slide" Target="slide42.xml"/><Relationship Id="rId9" Type="http://schemas.openxmlformats.org/officeDocument/2006/relationships/slide" Target="slide52.xml"/><Relationship Id="rId10" Type="http://schemas.openxmlformats.org/officeDocument/2006/relationships/slide" Target="slide14.xml"/><Relationship Id="rId11" Type="http://schemas.openxmlformats.org/officeDocument/2006/relationships/slide" Target="slide24.xml"/><Relationship Id="rId12" Type="http://schemas.openxmlformats.org/officeDocument/2006/relationships/slide" Target="slide34.xml"/><Relationship Id="rId13" Type="http://schemas.openxmlformats.org/officeDocument/2006/relationships/slide" Target="slide44.xml"/><Relationship Id="rId14" Type="http://schemas.openxmlformats.org/officeDocument/2006/relationships/slide" Target="slide54.xml"/><Relationship Id="rId15" Type="http://schemas.openxmlformats.org/officeDocument/2006/relationships/slide" Target="slide16.xml"/><Relationship Id="rId16" Type="http://schemas.openxmlformats.org/officeDocument/2006/relationships/slide" Target="slide36.xml"/><Relationship Id="rId17" Type="http://schemas.openxmlformats.org/officeDocument/2006/relationships/slide" Target="slide46.xml"/><Relationship Id="rId18" Type="http://schemas.openxmlformats.org/officeDocument/2006/relationships/slide" Target="slide56.xml"/><Relationship Id="rId19" Type="http://schemas.openxmlformats.org/officeDocument/2006/relationships/slide" Target="slide28.xml"/><Relationship Id="rId20" Type="http://schemas.openxmlformats.org/officeDocument/2006/relationships/slide" Target="slide38.xml"/><Relationship Id="rId21" Type="http://schemas.openxmlformats.org/officeDocument/2006/relationships/slide" Target="slide58.xml"/><Relationship Id="rId22" Type="http://schemas.openxmlformats.org/officeDocument/2006/relationships/slide" Target="slide20.xml"/><Relationship Id="rId23" Type="http://schemas.openxmlformats.org/officeDocument/2006/relationships/slide" Target="slide30.xml"/><Relationship Id="rId24" Type="http://schemas.openxmlformats.org/officeDocument/2006/relationships/slide" Target="slide50.xml"/><Relationship Id="rId25" Type="http://schemas.openxmlformats.org/officeDocument/2006/relationships/slide" Target="slide40.xml"/><Relationship Id="rId26" Type="http://schemas.openxmlformats.org/officeDocument/2006/relationships/slide" Target="slide60.xml"/><Relationship Id="rId2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5815080"/>
            <a:ext cx="914400" cy="738000"/>
          </a:xfrm>
          <a:custGeom>
            <a:avLst/>
            <a:gdLst>
              <a:gd name="textAreaLeft" fmla="*/ 47520 w 914400"/>
              <a:gd name="textAreaRight" fmla="*/ 866880 w 914400"/>
              <a:gd name="textAreaTop" fmla="*/ 47520 h 738000"/>
              <a:gd name="textAreaBottom" fmla="*/ 690480 h 738000"/>
            </a:gdLst>
            <a:ahLst/>
            <a:rect l="textAreaLeft" t="textAreaTop" r="textAreaRight" b="textAreaBottom"/>
            <a:pathLst>
              <a:path w="26760" h="21600">
                <a:moveTo>
                  <a:pt x="0" y="0"/>
                </a:moveTo>
                <a:lnTo>
                  <a:pt x="26760" y="0"/>
                </a:lnTo>
                <a:lnTo>
                  <a:pt x="26760" y="21600"/>
                </a:lnTo>
                <a:lnTo>
                  <a:pt x="0" y="21600"/>
                </a:lnTo>
                <a:close/>
              </a:path>
              <a:path fill="lightenLess" w="26760" h="21600">
                <a:moveTo>
                  <a:pt x="0" y="0"/>
                </a:moveTo>
                <a:lnTo>
                  <a:pt x="26760" y="0"/>
                </a:lnTo>
                <a:lnTo>
                  <a:pt x="25360" y="1400"/>
                </a:lnTo>
                <a:lnTo>
                  <a:pt x="1400" y="1400"/>
                </a:lnTo>
                <a:close/>
              </a:path>
              <a:path fill="darken" w="26760" h="21600">
                <a:moveTo>
                  <a:pt x="26760" y="0"/>
                </a:moveTo>
                <a:lnTo>
                  <a:pt x="26760" y="21600"/>
                </a:lnTo>
                <a:lnTo>
                  <a:pt x="25360" y="20200"/>
                </a:lnTo>
                <a:lnTo>
                  <a:pt x="25360" y="1400"/>
                </a:lnTo>
                <a:close/>
              </a:path>
              <a:path fill="darkenLess" w="26760" h="21600">
                <a:moveTo>
                  <a:pt x="267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60" y="20200"/>
                </a:lnTo>
                <a:close/>
              </a:path>
              <a:path fill="lighten" w="267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2286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28800" y="2286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pe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52680" y="2286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i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2286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Vocab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ul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00800" y="2286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848720" y="2286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Re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4800600"/>
            <a:ext cx="914400" cy="738360"/>
          </a:xfrm>
          <a:custGeom>
            <a:avLst/>
            <a:gdLst>
              <a:gd name="textAreaLeft" fmla="*/ 47520 w 914400"/>
              <a:gd name="textAreaRight" fmla="*/ 866880 w 914400"/>
              <a:gd name="textAreaTop" fmla="*/ 47520 h 738360"/>
              <a:gd name="textAreaBottom" fmla="*/ 690840 h 738360"/>
            </a:gdLst>
            <a:ahLst/>
            <a:rect l="textAreaLeft" t="textAreaTop" r="textAreaRight" b="textAreaBottom"/>
            <a:pathLst>
              <a:path w="26747" h="21600">
                <a:moveTo>
                  <a:pt x="0" y="0"/>
                </a:moveTo>
                <a:lnTo>
                  <a:pt x="26747" y="0"/>
                </a:lnTo>
                <a:lnTo>
                  <a:pt x="26747" y="21600"/>
                </a:lnTo>
                <a:lnTo>
                  <a:pt x="0" y="21600"/>
                </a:lnTo>
                <a:close/>
              </a:path>
              <a:path fill="lightenLess" w="26747" h="21600">
                <a:moveTo>
                  <a:pt x="0" y="0"/>
                </a:moveTo>
                <a:lnTo>
                  <a:pt x="26747" y="0"/>
                </a:lnTo>
                <a:lnTo>
                  <a:pt x="25347" y="1400"/>
                </a:lnTo>
                <a:lnTo>
                  <a:pt x="1400" y="1400"/>
                </a:lnTo>
                <a:close/>
              </a:path>
              <a:path fill="darken" w="26747" h="21600">
                <a:moveTo>
                  <a:pt x="26747" y="0"/>
                </a:moveTo>
                <a:lnTo>
                  <a:pt x="26747" y="21600"/>
                </a:lnTo>
                <a:lnTo>
                  <a:pt x="25347" y="20200"/>
                </a:lnTo>
                <a:lnTo>
                  <a:pt x="25347" y="1400"/>
                </a:lnTo>
                <a:close/>
              </a:path>
              <a:path fill="darkenLess" w="26747" h="21600">
                <a:moveTo>
                  <a:pt x="267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47" y="20200"/>
                </a:lnTo>
                <a:close/>
              </a:path>
              <a:path fill="lighten" w="267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3809880"/>
            <a:ext cx="914400" cy="738360"/>
          </a:xfrm>
          <a:custGeom>
            <a:avLst/>
            <a:gdLst>
              <a:gd name="textAreaLeft" fmla="*/ 47520 w 914400"/>
              <a:gd name="textAreaRight" fmla="*/ 866880 w 914400"/>
              <a:gd name="textAreaTop" fmla="*/ 47520 h 738360"/>
              <a:gd name="textAreaBottom" fmla="*/ 690840 h 738360"/>
            </a:gdLst>
            <a:ahLst/>
            <a:rect l="textAreaLeft" t="textAreaTop" r="textAreaRight" b="textAreaBottom"/>
            <a:pathLst>
              <a:path w="26747" h="21600">
                <a:moveTo>
                  <a:pt x="0" y="0"/>
                </a:moveTo>
                <a:lnTo>
                  <a:pt x="26747" y="0"/>
                </a:lnTo>
                <a:lnTo>
                  <a:pt x="26747" y="21600"/>
                </a:lnTo>
                <a:lnTo>
                  <a:pt x="0" y="21600"/>
                </a:lnTo>
                <a:close/>
              </a:path>
              <a:path fill="lightenLess" w="26747" h="21600">
                <a:moveTo>
                  <a:pt x="0" y="0"/>
                </a:moveTo>
                <a:lnTo>
                  <a:pt x="26747" y="0"/>
                </a:lnTo>
                <a:lnTo>
                  <a:pt x="25347" y="1400"/>
                </a:lnTo>
                <a:lnTo>
                  <a:pt x="1400" y="1400"/>
                </a:lnTo>
                <a:close/>
              </a:path>
              <a:path fill="darken" w="26747" h="21600">
                <a:moveTo>
                  <a:pt x="26747" y="0"/>
                </a:moveTo>
                <a:lnTo>
                  <a:pt x="26747" y="21600"/>
                </a:lnTo>
                <a:lnTo>
                  <a:pt x="25347" y="20200"/>
                </a:lnTo>
                <a:lnTo>
                  <a:pt x="25347" y="1400"/>
                </a:lnTo>
                <a:close/>
              </a:path>
              <a:path fill="darkenLess" w="26747" h="21600">
                <a:moveTo>
                  <a:pt x="267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47" y="20200"/>
                </a:lnTo>
                <a:close/>
              </a:path>
              <a:path fill="lighten" w="267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2819520"/>
            <a:ext cx="914400" cy="738000"/>
          </a:xfrm>
          <a:custGeom>
            <a:avLst/>
            <a:gdLst>
              <a:gd name="textAreaLeft" fmla="*/ 47520 w 914400"/>
              <a:gd name="textAreaRight" fmla="*/ 866880 w 914400"/>
              <a:gd name="textAreaTop" fmla="*/ 47520 h 738000"/>
              <a:gd name="textAreaBottom" fmla="*/ 690480 h 738000"/>
            </a:gdLst>
            <a:ahLst/>
            <a:rect l="textAreaLeft" t="textAreaTop" r="textAreaRight" b="textAreaBottom"/>
            <a:pathLst>
              <a:path w="26760" h="21600">
                <a:moveTo>
                  <a:pt x="0" y="0"/>
                </a:moveTo>
                <a:lnTo>
                  <a:pt x="26760" y="0"/>
                </a:lnTo>
                <a:lnTo>
                  <a:pt x="26760" y="21600"/>
                </a:lnTo>
                <a:lnTo>
                  <a:pt x="0" y="21600"/>
                </a:lnTo>
                <a:close/>
              </a:path>
              <a:path fill="lightenLess" w="26760" h="21600">
                <a:moveTo>
                  <a:pt x="0" y="0"/>
                </a:moveTo>
                <a:lnTo>
                  <a:pt x="26760" y="0"/>
                </a:lnTo>
                <a:lnTo>
                  <a:pt x="25360" y="1400"/>
                </a:lnTo>
                <a:lnTo>
                  <a:pt x="1400" y="1400"/>
                </a:lnTo>
                <a:close/>
              </a:path>
              <a:path fill="darken" w="26760" h="21600">
                <a:moveTo>
                  <a:pt x="26760" y="0"/>
                </a:moveTo>
                <a:lnTo>
                  <a:pt x="26760" y="21600"/>
                </a:lnTo>
                <a:lnTo>
                  <a:pt x="25360" y="20200"/>
                </a:lnTo>
                <a:lnTo>
                  <a:pt x="25360" y="1400"/>
                </a:lnTo>
                <a:close/>
              </a:path>
              <a:path fill="darkenLess" w="26760" h="21600">
                <a:moveTo>
                  <a:pt x="267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60" y="20200"/>
                </a:lnTo>
                <a:close/>
              </a:path>
              <a:path fill="lighten" w="267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1828800"/>
            <a:ext cx="914400" cy="738360"/>
          </a:xfrm>
          <a:custGeom>
            <a:avLst/>
            <a:gdLst>
              <a:gd name="textAreaLeft" fmla="*/ 47520 w 914400"/>
              <a:gd name="textAreaRight" fmla="*/ 866880 w 914400"/>
              <a:gd name="textAreaTop" fmla="*/ 47520 h 738360"/>
              <a:gd name="textAreaBottom" fmla="*/ 690840 h 738360"/>
            </a:gdLst>
            <a:ahLst/>
            <a:rect l="textAreaLeft" t="textAreaTop" r="textAreaRight" b="textAreaBottom"/>
            <a:pathLst>
              <a:path w="26747" h="21600">
                <a:moveTo>
                  <a:pt x="0" y="0"/>
                </a:moveTo>
                <a:lnTo>
                  <a:pt x="26747" y="0"/>
                </a:lnTo>
                <a:lnTo>
                  <a:pt x="26747" y="21600"/>
                </a:lnTo>
                <a:lnTo>
                  <a:pt x="0" y="21600"/>
                </a:lnTo>
                <a:close/>
              </a:path>
              <a:path fill="lightenLess" w="26747" h="21600">
                <a:moveTo>
                  <a:pt x="0" y="0"/>
                </a:moveTo>
                <a:lnTo>
                  <a:pt x="26747" y="0"/>
                </a:lnTo>
                <a:lnTo>
                  <a:pt x="25347" y="1400"/>
                </a:lnTo>
                <a:lnTo>
                  <a:pt x="1400" y="1400"/>
                </a:lnTo>
                <a:close/>
              </a:path>
              <a:path fill="darken" w="26747" h="21600">
                <a:moveTo>
                  <a:pt x="26747" y="0"/>
                </a:moveTo>
                <a:lnTo>
                  <a:pt x="26747" y="21600"/>
                </a:lnTo>
                <a:lnTo>
                  <a:pt x="25347" y="20200"/>
                </a:lnTo>
                <a:lnTo>
                  <a:pt x="25347" y="1400"/>
                </a:lnTo>
                <a:close/>
              </a:path>
              <a:path fill="darkenLess" w="26747" h="21600">
                <a:moveTo>
                  <a:pt x="267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47" y="20200"/>
                </a:lnTo>
                <a:close/>
              </a:path>
              <a:path fill="lighten" w="267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1828800"/>
            <a:ext cx="914400" cy="738360"/>
          </a:xfrm>
          <a:custGeom>
            <a:avLst/>
            <a:gdLst>
              <a:gd name="textAreaLeft" fmla="*/ 47520 w 914400"/>
              <a:gd name="textAreaRight" fmla="*/ 866880 w 914400"/>
              <a:gd name="textAreaTop" fmla="*/ 47520 h 738360"/>
              <a:gd name="textAreaBottom" fmla="*/ 690840 h 738360"/>
            </a:gdLst>
            <a:ahLst/>
            <a:rect l="textAreaLeft" t="textAreaTop" r="textAreaRight" b="textAreaBottom"/>
            <a:pathLst>
              <a:path w="26747" h="21600">
                <a:moveTo>
                  <a:pt x="0" y="0"/>
                </a:moveTo>
                <a:lnTo>
                  <a:pt x="26747" y="0"/>
                </a:lnTo>
                <a:lnTo>
                  <a:pt x="26747" y="21600"/>
                </a:lnTo>
                <a:lnTo>
                  <a:pt x="0" y="21600"/>
                </a:lnTo>
                <a:close/>
              </a:path>
              <a:path fill="lightenLess" w="26747" h="21600">
                <a:moveTo>
                  <a:pt x="0" y="0"/>
                </a:moveTo>
                <a:lnTo>
                  <a:pt x="26747" y="0"/>
                </a:lnTo>
                <a:lnTo>
                  <a:pt x="25347" y="1400"/>
                </a:lnTo>
                <a:lnTo>
                  <a:pt x="1400" y="1400"/>
                </a:lnTo>
                <a:close/>
              </a:path>
              <a:path fill="darken" w="26747" h="21600">
                <a:moveTo>
                  <a:pt x="26747" y="0"/>
                </a:moveTo>
                <a:lnTo>
                  <a:pt x="26747" y="21600"/>
                </a:lnTo>
                <a:lnTo>
                  <a:pt x="25347" y="20200"/>
                </a:lnTo>
                <a:lnTo>
                  <a:pt x="25347" y="1400"/>
                </a:lnTo>
                <a:close/>
              </a:path>
              <a:path fill="darkenLess" w="26747" h="21600">
                <a:moveTo>
                  <a:pt x="267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47" y="20200"/>
                </a:lnTo>
                <a:close/>
              </a:path>
              <a:path fill="lighten" w="267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1828800"/>
            <a:ext cx="914400" cy="738360"/>
          </a:xfrm>
          <a:custGeom>
            <a:avLst/>
            <a:gdLst>
              <a:gd name="textAreaLeft" fmla="*/ 47520 w 914400"/>
              <a:gd name="textAreaRight" fmla="*/ 866880 w 914400"/>
              <a:gd name="textAreaTop" fmla="*/ 47520 h 738360"/>
              <a:gd name="textAreaBottom" fmla="*/ 690840 h 738360"/>
            </a:gdLst>
            <a:ahLst/>
            <a:rect l="textAreaLeft" t="textAreaTop" r="textAreaRight" b="textAreaBottom"/>
            <a:pathLst>
              <a:path w="26747" h="21600">
                <a:moveTo>
                  <a:pt x="0" y="0"/>
                </a:moveTo>
                <a:lnTo>
                  <a:pt x="26747" y="0"/>
                </a:lnTo>
                <a:lnTo>
                  <a:pt x="26747" y="21600"/>
                </a:lnTo>
                <a:lnTo>
                  <a:pt x="0" y="21600"/>
                </a:lnTo>
                <a:close/>
              </a:path>
              <a:path fill="lightenLess" w="26747" h="21600">
                <a:moveTo>
                  <a:pt x="0" y="0"/>
                </a:moveTo>
                <a:lnTo>
                  <a:pt x="26747" y="0"/>
                </a:lnTo>
                <a:lnTo>
                  <a:pt x="25347" y="1400"/>
                </a:lnTo>
                <a:lnTo>
                  <a:pt x="1400" y="1400"/>
                </a:lnTo>
                <a:close/>
              </a:path>
              <a:path fill="darken" w="26747" h="21600">
                <a:moveTo>
                  <a:pt x="26747" y="0"/>
                </a:moveTo>
                <a:lnTo>
                  <a:pt x="26747" y="21600"/>
                </a:lnTo>
                <a:lnTo>
                  <a:pt x="25347" y="20200"/>
                </a:lnTo>
                <a:lnTo>
                  <a:pt x="25347" y="1400"/>
                </a:lnTo>
                <a:close/>
              </a:path>
              <a:path fill="darkenLess" w="26747" h="21600">
                <a:moveTo>
                  <a:pt x="267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47" y="20200"/>
                </a:lnTo>
                <a:close/>
              </a:path>
              <a:path fill="lighten" w="267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952880" y="1828800"/>
            <a:ext cx="914400" cy="738360"/>
          </a:xfrm>
          <a:custGeom>
            <a:avLst/>
            <a:gdLst>
              <a:gd name="textAreaLeft" fmla="*/ 47520 w 914400"/>
              <a:gd name="textAreaRight" fmla="*/ 866880 w 914400"/>
              <a:gd name="textAreaTop" fmla="*/ 47520 h 738360"/>
              <a:gd name="textAreaBottom" fmla="*/ 690840 h 738360"/>
            </a:gdLst>
            <a:ahLst/>
            <a:rect l="textAreaLeft" t="textAreaTop" r="textAreaRight" b="textAreaBottom"/>
            <a:pathLst>
              <a:path w="26747" h="21600">
                <a:moveTo>
                  <a:pt x="0" y="0"/>
                </a:moveTo>
                <a:lnTo>
                  <a:pt x="26747" y="0"/>
                </a:lnTo>
                <a:lnTo>
                  <a:pt x="26747" y="21600"/>
                </a:lnTo>
                <a:lnTo>
                  <a:pt x="0" y="21600"/>
                </a:lnTo>
                <a:close/>
              </a:path>
              <a:path fill="lightenLess" w="26747" h="21600">
                <a:moveTo>
                  <a:pt x="0" y="0"/>
                </a:moveTo>
                <a:lnTo>
                  <a:pt x="26747" y="0"/>
                </a:lnTo>
                <a:lnTo>
                  <a:pt x="25347" y="1400"/>
                </a:lnTo>
                <a:lnTo>
                  <a:pt x="1400" y="1400"/>
                </a:lnTo>
                <a:close/>
              </a:path>
              <a:path fill="darken" w="26747" h="21600">
                <a:moveTo>
                  <a:pt x="26747" y="0"/>
                </a:moveTo>
                <a:lnTo>
                  <a:pt x="26747" y="21600"/>
                </a:lnTo>
                <a:lnTo>
                  <a:pt x="25347" y="20200"/>
                </a:lnTo>
                <a:lnTo>
                  <a:pt x="25347" y="1400"/>
                </a:lnTo>
                <a:close/>
              </a:path>
              <a:path fill="darkenLess" w="26747" h="21600">
                <a:moveTo>
                  <a:pt x="267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47" y="20200"/>
                </a:lnTo>
                <a:close/>
              </a:path>
              <a:path fill="lighten" w="267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477120" y="1828800"/>
            <a:ext cx="914400" cy="738360"/>
          </a:xfrm>
          <a:custGeom>
            <a:avLst/>
            <a:gdLst>
              <a:gd name="textAreaLeft" fmla="*/ 47520 w 914400"/>
              <a:gd name="textAreaRight" fmla="*/ 866880 w 914400"/>
              <a:gd name="textAreaTop" fmla="*/ 47520 h 738360"/>
              <a:gd name="textAreaBottom" fmla="*/ 690840 h 738360"/>
            </a:gdLst>
            <a:ahLst/>
            <a:rect l="textAreaLeft" t="textAreaTop" r="textAreaRight" b="textAreaBottom"/>
            <a:pathLst>
              <a:path w="26747" h="21600">
                <a:moveTo>
                  <a:pt x="0" y="0"/>
                </a:moveTo>
                <a:lnTo>
                  <a:pt x="26747" y="0"/>
                </a:lnTo>
                <a:lnTo>
                  <a:pt x="26747" y="21600"/>
                </a:lnTo>
                <a:lnTo>
                  <a:pt x="0" y="21600"/>
                </a:lnTo>
                <a:close/>
              </a:path>
              <a:path fill="lightenLess" w="26747" h="21600">
                <a:moveTo>
                  <a:pt x="0" y="0"/>
                </a:moveTo>
                <a:lnTo>
                  <a:pt x="26747" y="0"/>
                </a:lnTo>
                <a:lnTo>
                  <a:pt x="25347" y="1400"/>
                </a:lnTo>
                <a:lnTo>
                  <a:pt x="1400" y="1400"/>
                </a:lnTo>
                <a:close/>
              </a:path>
              <a:path fill="darken" w="26747" h="21600">
                <a:moveTo>
                  <a:pt x="26747" y="0"/>
                </a:moveTo>
                <a:lnTo>
                  <a:pt x="26747" y="21600"/>
                </a:lnTo>
                <a:lnTo>
                  <a:pt x="25347" y="20200"/>
                </a:lnTo>
                <a:lnTo>
                  <a:pt x="25347" y="1400"/>
                </a:lnTo>
                <a:close/>
              </a:path>
              <a:path fill="darkenLess" w="26747" h="21600">
                <a:moveTo>
                  <a:pt x="267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47" y="20200"/>
                </a:lnTo>
                <a:close/>
              </a:path>
              <a:path fill="lighten" w="267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924680" y="1828800"/>
            <a:ext cx="914400" cy="738360"/>
          </a:xfrm>
          <a:custGeom>
            <a:avLst/>
            <a:gdLst>
              <a:gd name="textAreaLeft" fmla="*/ 47520 w 914400"/>
              <a:gd name="textAreaRight" fmla="*/ 866880 w 914400"/>
              <a:gd name="textAreaTop" fmla="*/ 47520 h 738360"/>
              <a:gd name="textAreaBottom" fmla="*/ 690840 h 738360"/>
            </a:gdLst>
            <a:ahLst/>
            <a:rect l="textAreaLeft" t="textAreaTop" r="textAreaRight" b="textAreaBottom"/>
            <a:pathLst>
              <a:path w="26747" h="21600">
                <a:moveTo>
                  <a:pt x="0" y="0"/>
                </a:moveTo>
                <a:lnTo>
                  <a:pt x="26747" y="0"/>
                </a:lnTo>
                <a:lnTo>
                  <a:pt x="26747" y="21600"/>
                </a:lnTo>
                <a:lnTo>
                  <a:pt x="0" y="21600"/>
                </a:lnTo>
                <a:close/>
              </a:path>
              <a:path fill="lightenLess" w="26747" h="21600">
                <a:moveTo>
                  <a:pt x="0" y="0"/>
                </a:moveTo>
                <a:lnTo>
                  <a:pt x="26747" y="0"/>
                </a:lnTo>
                <a:lnTo>
                  <a:pt x="25347" y="1400"/>
                </a:lnTo>
                <a:lnTo>
                  <a:pt x="1400" y="1400"/>
                </a:lnTo>
                <a:close/>
              </a:path>
              <a:path fill="darken" w="26747" h="21600">
                <a:moveTo>
                  <a:pt x="26747" y="0"/>
                </a:moveTo>
                <a:lnTo>
                  <a:pt x="26747" y="21600"/>
                </a:lnTo>
                <a:lnTo>
                  <a:pt x="25347" y="20200"/>
                </a:lnTo>
                <a:lnTo>
                  <a:pt x="25347" y="1400"/>
                </a:lnTo>
                <a:close/>
              </a:path>
              <a:path fill="darkenLess" w="26747" h="21600">
                <a:moveTo>
                  <a:pt x="267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47" y="20200"/>
                </a:lnTo>
                <a:close/>
              </a:path>
              <a:path fill="lighten" w="267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28800" y="2819520"/>
            <a:ext cx="914400" cy="738000"/>
          </a:xfrm>
          <a:custGeom>
            <a:avLst/>
            <a:gdLst>
              <a:gd name="textAreaLeft" fmla="*/ 47520 w 914400"/>
              <a:gd name="textAreaRight" fmla="*/ 866880 w 914400"/>
              <a:gd name="textAreaTop" fmla="*/ 47520 h 738000"/>
              <a:gd name="textAreaBottom" fmla="*/ 690480 h 738000"/>
            </a:gdLst>
            <a:ahLst/>
            <a:rect l="textAreaLeft" t="textAreaTop" r="textAreaRight" b="textAreaBottom"/>
            <a:pathLst>
              <a:path w="26760" h="21600">
                <a:moveTo>
                  <a:pt x="0" y="0"/>
                </a:moveTo>
                <a:lnTo>
                  <a:pt x="26760" y="0"/>
                </a:lnTo>
                <a:lnTo>
                  <a:pt x="26760" y="21600"/>
                </a:lnTo>
                <a:lnTo>
                  <a:pt x="0" y="21600"/>
                </a:lnTo>
                <a:close/>
              </a:path>
              <a:path fill="lightenLess" w="26760" h="21600">
                <a:moveTo>
                  <a:pt x="0" y="0"/>
                </a:moveTo>
                <a:lnTo>
                  <a:pt x="26760" y="0"/>
                </a:lnTo>
                <a:lnTo>
                  <a:pt x="25360" y="1400"/>
                </a:lnTo>
                <a:lnTo>
                  <a:pt x="1400" y="1400"/>
                </a:lnTo>
                <a:close/>
              </a:path>
              <a:path fill="darken" w="26760" h="21600">
                <a:moveTo>
                  <a:pt x="26760" y="0"/>
                </a:moveTo>
                <a:lnTo>
                  <a:pt x="26760" y="21600"/>
                </a:lnTo>
                <a:lnTo>
                  <a:pt x="25360" y="20200"/>
                </a:lnTo>
                <a:lnTo>
                  <a:pt x="25360" y="1400"/>
                </a:lnTo>
                <a:close/>
              </a:path>
              <a:path fill="darkenLess" w="26760" h="21600">
                <a:moveTo>
                  <a:pt x="267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60" y="20200"/>
                </a:lnTo>
                <a:close/>
              </a:path>
              <a:path fill="lighten" w="267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819520"/>
            <a:ext cx="914400" cy="738000"/>
          </a:xfrm>
          <a:custGeom>
            <a:avLst/>
            <a:gdLst>
              <a:gd name="textAreaLeft" fmla="*/ 47520 w 914400"/>
              <a:gd name="textAreaRight" fmla="*/ 866880 w 914400"/>
              <a:gd name="textAreaTop" fmla="*/ 47520 h 738000"/>
              <a:gd name="textAreaBottom" fmla="*/ 690480 h 738000"/>
            </a:gdLst>
            <a:ahLst/>
            <a:rect l="textAreaLeft" t="textAreaTop" r="textAreaRight" b="textAreaBottom"/>
            <a:pathLst>
              <a:path w="26760" h="21600">
                <a:moveTo>
                  <a:pt x="0" y="0"/>
                </a:moveTo>
                <a:lnTo>
                  <a:pt x="26760" y="0"/>
                </a:lnTo>
                <a:lnTo>
                  <a:pt x="26760" y="21600"/>
                </a:lnTo>
                <a:lnTo>
                  <a:pt x="0" y="21600"/>
                </a:lnTo>
                <a:close/>
              </a:path>
              <a:path fill="lightenLess" w="26760" h="21600">
                <a:moveTo>
                  <a:pt x="0" y="0"/>
                </a:moveTo>
                <a:lnTo>
                  <a:pt x="26760" y="0"/>
                </a:lnTo>
                <a:lnTo>
                  <a:pt x="25360" y="1400"/>
                </a:lnTo>
                <a:lnTo>
                  <a:pt x="1400" y="1400"/>
                </a:lnTo>
                <a:close/>
              </a:path>
              <a:path fill="darken" w="26760" h="21600">
                <a:moveTo>
                  <a:pt x="26760" y="0"/>
                </a:moveTo>
                <a:lnTo>
                  <a:pt x="26760" y="21600"/>
                </a:lnTo>
                <a:lnTo>
                  <a:pt x="25360" y="20200"/>
                </a:lnTo>
                <a:lnTo>
                  <a:pt x="25360" y="1400"/>
                </a:lnTo>
                <a:close/>
              </a:path>
              <a:path fill="darkenLess" w="26760" h="21600">
                <a:moveTo>
                  <a:pt x="267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60" y="20200"/>
                </a:lnTo>
                <a:close/>
              </a:path>
              <a:path fill="lighten" w="267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52880" y="2819520"/>
            <a:ext cx="914400" cy="738000"/>
          </a:xfrm>
          <a:custGeom>
            <a:avLst/>
            <a:gdLst>
              <a:gd name="textAreaLeft" fmla="*/ 47520 w 914400"/>
              <a:gd name="textAreaRight" fmla="*/ 866880 w 914400"/>
              <a:gd name="textAreaTop" fmla="*/ 47520 h 738000"/>
              <a:gd name="textAreaBottom" fmla="*/ 690480 h 738000"/>
            </a:gdLst>
            <a:ahLst/>
            <a:rect l="textAreaLeft" t="textAreaTop" r="textAreaRight" b="textAreaBottom"/>
            <a:pathLst>
              <a:path w="26760" h="21600">
                <a:moveTo>
                  <a:pt x="0" y="0"/>
                </a:moveTo>
                <a:lnTo>
                  <a:pt x="26760" y="0"/>
                </a:lnTo>
                <a:lnTo>
                  <a:pt x="26760" y="21600"/>
                </a:lnTo>
                <a:lnTo>
                  <a:pt x="0" y="21600"/>
                </a:lnTo>
                <a:close/>
              </a:path>
              <a:path fill="lightenLess" w="26760" h="21600">
                <a:moveTo>
                  <a:pt x="0" y="0"/>
                </a:moveTo>
                <a:lnTo>
                  <a:pt x="26760" y="0"/>
                </a:lnTo>
                <a:lnTo>
                  <a:pt x="25360" y="1400"/>
                </a:lnTo>
                <a:lnTo>
                  <a:pt x="1400" y="1400"/>
                </a:lnTo>
                <a:close/>
              </a:path>
              <a:path fill="darken" w="26760" h="21600">
                <a:moveTo>
                  <a:pt x="26760" y="0"/>
                </a:moveTo>
                <a:lnTo>
                  <a:pt x="26760" y="21600"/>
                </a:lnTo>
                <a:lnTo>
                  <a:pt x="25360" y="20200"/>
                </a:lnTo>
                <a:lnTo>
                  <a:pt x="25360" y="1400"/>
                </a:lnTo>
                <a:close/>
              </a:path>
              <a:path fill="darkenLess" w="26760" h="21600">
                <a:moveTo>
                  <a:pt x="267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60" y="20200"/>
                </a:lnTo>
                <a:close/>
              </a:path>
              <a:path fill="lighten" w="267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477120" y="2819520"/>
            <a:ext cx="914400" cy="738000"/>
          </a:xfrm>
          <a:custGeom>
            <a:avLst/>
            <a:gdLst>
              <a:gd name="textAreaLeft" fmla="*/ 47520 w 914400"/>
              <a:gd name="textAreaRight" fmla="*/ 866880 w 914400"/>
              <a:gd name="textAreaTop" fmla="*/ 47520 h 738000"/>
              <a:gd name="textAreaBottom" fmla="*/ 690480 h 738000"/>
            </a:gdLst>
            <a:ahLst/>
            <a:rect l="textAreaLeft" t="textAreaTop" r="textAreaRight" b="textAreaBottom"/>
            <a:pathLst>
              <a:path w="26760" h="21600">
                <a:moveTo>
                  <a:pt x="0" y="0"/>
                </a:moveTo>
                <a:lnTo>
                  <a:pt x="26760" y="0"/>
                </a:lnTo>
                <a:lnTo>
                  <a:pt x="26760" y="21600"/>
                </a:lnTo>
                <a:lnTo>
                  <a:pt x="0" y="21600"/>
                </a:lnTo>
                <a:close/>
              </a:path>
              <a:path fill="lightenLess" w="26760" h="21600">
                <a:moveTo>
                  <a:pt x="0" y="0"/>
                </a:moveTo>
                <a:lnTo>
                  <a:pt x="26760" y="0"/>
                </a:lnTo>
                <a:lnTo>
                  <a:pt x="25360" y="1400"/>
                </a:lnTo>
                <a:lnTo>
                  <a:pt x="1400" y="1400"/>
                </a:lnTo>
                <a:close/>
              </a:path>
              <a:path fill="darken" w="26760" h="21600">
                <a:moveTo>
                  <a:pt x="26760" y="0"/>
                </a:moveTo>
                <a:lnTo>
                  <a:pt x="26760" y="21600"/>
                </a:lnTo>
                <a:lnTo>
                  <a:pt x="25360" y="20200"/>
                </a:lnTo>
                <a:lnTo>
                  <a:pt x="25360" y="1400"/>
                </a:lnTo>
                <a:close/>
              </a:path>
              <a:path fill="darkenLess" w="26760" h="21600">
                <a:moveTo>
                  <a:pt x="267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60" y="20200"/>
                </a:lnTo>
                <a:close/>
              </a:path>
              <a:path fill="lighten" w="267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924680" y="2819520"/>
            <a:ext cx="914400" cy="738000"/>
          </a:xfrm>
          <a:custGeom>
            <a:avLst/>
            <a:gdLst>
              <a:gd name="textAreaLeft" fmla="*/ 47520 w 914400"/>
              <a:gd name="textAreaRight" fmla="*/ 866880 w 914400"/>
              <a:gd name="textAreaTop" fmla="*/ 47520 h 738000"/>
              <a:gd name="textAreaBottom" fmla="*/ 690480 h 738000"/>
            </a:gdLst>
            <a:ahLst/>
            <a:rect l="textAreaLeft" t="textAreaTop" r="textAreaRight" b="textAreaBottom"/>
            <a:pathLst>
              <a:path w="26760" h="21600">
                <a:moveTo>
                  <a:pt x="0" y="0"/>
                </a:moveTo>
                <a:lnTo>
                  <a:pt x="26760" y="0"/>
                </a:lnTo>
                <a:lnTo>
                  <a:pt x="26760" y="21600"/>
                </a:lnTo>
                <a:lnTo>
                  <a:pt x="0" y="21600"/>
                </a:lnTo>
                <a:close/>
              </a:path>
              <a:path fill="lightenLess" w="26760" h="21600">
                <a:moveTo>
                  <a:pt x="0" y="0"/>
                </a:moveTo>
                <a:lnTo>
                  <a:pt x="26760" y="0"/>
                </a:lnTo>
                <a:lnTo>
                  <a:pt x="25360" y="1400"/>
                </a:lnTo>
                <a:lnTo>
                  <a:pt x="1400" y="1400"/>
                </a:lnTo>
                <a:close/>
              </a:path>
              <a:path fill="darken" w="26760" h="21600">
                <a:moveTo>
                  <a:pt x="26760" y="0"/>
                </a:moveTo>
                <a:lnTo>
                  <a:pt x="26760" y="21600"/>
                </a:lnTo>
                <a:lnTo>
                  <a:pt x="25360" y="20200"/>
                </a:lnTo>
                <a:lnTo>
                  <a:pt x="25360" y="1400"/>
                </a:lnTo>
                <a:close/>
              </a:path>
              <a:path fill="darkenLess" w="26760" h="21600">
                <a:moveTo>
                  <a:pt x="267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60" y="20200"/>
                </a:lnTo>
                <a:close/>
              </a:path>
              <a:path fill="lighten" w="267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28800" y="3809880"/>
            <a:ext cx="914400" cy="738360"/>
          </a:xfrm>
          <a:custGeom>
            <a:avLst/>
            <a:gdLst>
              <a:gd name="textAreaLeft" fmla="*/ 47520 w 914400"/>
              <a:gd name="textAreaRight" fmla="*/ 866880 w 914400"/>
              <a:gd name="textAreaTop" fmla="*/ 47520 h 738360"/>
              <a:gd name="textAreaBottom" fmla="*/ 690840 h 738360"/>
            </a:gdLst>
            <a:ahLst/>
            <a:rect l="textAreaLeft" t="textAreaTop" r="textAreaRight" b="textAreaBottom"/>
            <a:pathLst>
              <a:path w="26747" h="21600">
                <a:moveTo>
                  <a:pt x="0" y="0"/>
                </a:moveTo>
                <a:lnTo>
                  <a:pt x="26747" y="0"/>
                </a:lnTo>
                <a:lnTo>
                  <a:pt x="26747" y="21600"/>
                </a:lnTo>
                <a:lnTo>
                  <a:pt x="0" y="21600"/>
                </a:lnTo>
                <a:close/>
              </a:path>
              <a:path fill="lightenLess" w="26747" h="21600">
                <a:moveTo>
                  <a:pt x="0" y="0"/>
                </a:moveTo>
                <a:lnTo>
                  <a:pt x="26747" y="0"/>
                </a:lnTo>
                <a:lnTo>
                  <a:pt x="25347" y="1400"/>
                </a:lnTo>
                <a:lnTo>
                  <a:pt x="1400" y="1400"/>
                </a:lnTo>
                <a:close/>
              </a:path>
              <a:path fill="darken" w="26747" h="21600">
                <a:moveTo>
                  <a:pt x="26747" y="0"/>
                </a:moveTo>
                <a:lnTo>
                  <a:pt x="26747" y="21600"/>
                </a:lnTo>
                <a:lnTo>
                  <a:pt x="25347" y="20200"/>
                </a:lnTo>
                <a:lnTo>
                  <a:pt x="25347" y="1400"/>
                </a:lnTo>
                <a:close/>
              </a:path>
              <a:path fill="darkenLess" w="26747" h="21600">
                <a:moveTo>
                  <a:pt x="267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47" y="20200"/>
                </a:lnTo>
                <a:close/>
              </a:path>
              <a:path fill="lighten" w="267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3809880"/>
            <a:ext cx="914400" cy="738360"/>
          </a:xfrm>
          <a:custGeom>
            <a:avLst/>
            <a:gdLst>
              <a:gd name="textAreaLeft" fmla="*/ 47520 w 914400"/>
              <a:gd name="textAreaRight" fmla="*/ 866880 w 914400"/>
              <a:gd name="textAreaTop" fmla="*/ 47520 h 738360"/>
              <a:gd name="textAreaBottom" fmla="*/ 690840 h 738360"/>
            </a:gdLst>
            <a:ahLst/>
            <a:rect l="textAreaLeft" t="textAreaTop" r="textAreaRight" b="textAreaBottom"/>
            <a:pathLst>
              <a:path w="26747" h="21600">
                <a:moveTo>
                  <a:pt x="0" y="0"/>
                </a:moveTo>
                <a:lnTo>
                  <a:pt x="26747" y="0"/>
                </a:lnTo>
                <a:lnTo>
                  <a:pt x="26747" y="21600"/>
                </a:lnTo>
                <a:lnTo>
                  <a:pt x="0" y="21600"/>
                </a:lnTo>
                <a:close/>
              </a:path>
              <a:path fill="lightenLess" w="26747" h="21600">
                <a:moveTo>
                  <a:pt x="0" y="0"/>
                </a:moveTo>
                <a:lnTo>
                  <a:pt x="26747" y="0"/>
                </a:lnTo>
                <a:lnTo>
                  <a:pt x="25347" y="1400"/>
                </a:lnTo>
                <a:lnTo>
                  <a:pt x="1400" y="1400"/>
                </a:lnTo>
                <a:close/>
              </a:path>
              <a:path fill="darken" w="26747" h="21600">
                <a:moveTo>
                  <a:pt x="26747" y="0"/>
                </a:moveTo>
                <a:lnTo>
                  <a:pt x="26747" y="21600"/>
                </a:lnTo>
                <a:lnTo>
                  <a:pt x="25347" y="20200"/>
                </a:lnTo>
                <a:lnTo>
                  <a:pt x="25347" y="1400"/>
                </a:lnTo>
                <a:close/>
              </a:path>
              <a:path fill="darkenLess" w="26747" h="21600">
                <a:moveTo>
                  <a:pt x="267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47" y="20200"/>
                </a:lnTo>
                <a:close/>
              </a:path>
              <a:path fill="lighten" w="267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52880" y="3809880"/>
            <a:ext cx="914400" cy="738360"/>
          </a:xfrm>
          <a:custGeom>
            <a:avLst/>
            <a:gdLst>
              <a:gd name="textAreaLeft" fmla="*/ 47520 w 914400"/>
              <a:gd name="textAreaRight" fmla="*/ 866880 w 914400"/>
              <a:gd name="textAreaTop" fmla="*/ 47520 h 738360"/>
              <a:gd name="textAreaBottom" fmla="*/ 690840 h 738360"/>
            </a:gdLst>
            <a:ahLst/>
            <a:rect l="textAreaLeft" t="textAreaTop" r="textAreaRight" b="textAreaBottom"/>
            <a:pathLst>
              <a:path w="26747" h="21600">
                <a:moveTo>
                  <a:pt x="0" y="0"/>
                </a:moveTo>
                <a:lnTo>
                  <a:pt x="26747" y="0"/>
                </a:lnTo>
                <a:lnTo>
                  <a:pt x="26747" y="21600"/>
                </a:lnTo>
                <a:lnTo>
                  <a:pt x="0" y="21600"/>
                </a:lnTo>
                <a:close/>
              </a:path>
              <a:path fill="lightenLess" w="26747" h="21600">
                <a:moveTo>
                  <a:pt x="0" y="0"/>
                </a:moveTo>
                <a:lnTo>
                  <a:pt x="26747" y="0"/>
                </a:lnTo>
                <a:lnTo>
                  <a:pt x="25347" y="1400"/>
                </a:lnTo>
                <a:lnTo>
                  <a:pt x="1400" y="1400"/>
                </a:lnTo>
                <a:close/>
              </a:path>
              <a:path fill="darken" w="26747" h="21600">
                <a:moveTo>
                  <a:pt x="26747" y="0"/>
                </a:moveTo>
                <a:lnTo>
                  <a:pt x="26747" y="21600"/>
                </a:lnTo>
                <a:lnTo>
                  <a:pt x="25347" y="20200"/>
                </a:lnTo>
                <a:lnTo>
                  <a:pt x="25347" y="1400"/>
                </a:lnTo>
                <a:close/>
              </a:path>
              <a:path fill="darkenLess" w="26747" h="21600">
                <a:moveTo>
                  <a:pt x="267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47" y="20200"/>
                </a:lnTo>
                <a:close/>
              </a:path>
              <a:path fill="lighten" w="267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477120" y="3809880"/>
            <a:ext cx="914400" cy="738360"/>
          </a:xfrm>
          <a:custGeom>
            <a:avLst/>
            <a:gdLst>
              <a:gd name="textAreaLeft" fmla="*/ 47520 w 914400"/>
              <a:gd name="textAreaRight" fmla="*/ 866880 w 914400"/>
              <a:gd name="textAreaTop" fmla="*/ 47520 h 738360"/>
              <a:gd name="textAreaBottom" fmla="*/ 690840 h 738360"/>
            </a:gdLst>
            <a:ahLst/>
            <a:rect l="textAreaLeft" t="textAreaTop" r="textAreaRight" b="textAreaBottom"/>
            <a:pathLst>
              <a:path w="26747" h="21600">
                <a:moveTo>
                  <a:pt x="0" y="0"/>
                </a:moveTo>
                <a:lnTo>
                  <a:pt x="26747" y="0"/>
                </a:lnTo>
                <a:lnTo>
                  <a:pt x="26747" y="21600"/>
                </a:lnTo>
                <a:lnTo>
                  <a:pt x="0" y="21600"/>
                </a:lnTo>
                <a:close/>
              </a:path>
              <a:path fill="lightenLess" w="26747" h="21600">
                <a:moveTo>
                  <a:pt x="0" y="0"/>
                </a:moveTo>
                <a:lnTo>
                  <a:pt x="26747" y="0"/>
                </a:lnTo>
                <a:lnTo>
                  <a:pt x="25347" y="1400"/>
                </a:lnTo>
                <a:lnTo>
                  <a:pt x="1400" y="1400"/>
                </a:lnTo>
                <a:close/>
              </a:path>
              <a:path fill="darken" w="26747" h="21600">
                <a:moveTo>
                  <a:pt x="26747" y="0"/>
                </a:moveTo>
                <a:lnTo>
                  <a:pt x="26747" y="21600"/>
                </a:lnTo>
                <a:lnTo>
                  <a:pt x="25347" y="20200"/>
                </a:lnTo>
                <a:lnTo>
                  <a:pt x="25347" y="1400"/>
                </a:lnTo>
                <a:close/>
              </a:path>
              <a:path fill="darkenLess" w="26747" h="21600">
                <a:moveTo>
                  <a:pt x="267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47" y="20200"/>
                </a:lnTo>
                <a:close/>
              </a:path>
              <a:path fill="lighten" w="267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924680" y="3809880"/>
            <a:ext cx="914400" cy="738360"/>
          </a:xfrm>
          <a:custGeom>
            <a:avLst/>
            <a:gdLst>
              <a:gd name="textAreaLeft" fmla="*/ 47520 w 914400"/>
              <a:gd name="textAreaRight" fmla="*/ 866880 w 914400"/>
              <a:gd name="textAreaTop" fmla="*/ 47520 h 738360"/>
              <a:gd name="textAreaBottom" fmla="*/ 690840 h 738360"/>
            </a:gdLst>
            <a:ahLst/>
            <a:rect l="textAreaLeft" t="textAreaTop" r="textAreaRight" b="textAreaBottom"/>
            <a:pathLst>
              <a:path w="26747" h="21600">
                <a:moveTo>
                  <a:pt x="0" y="0"/>
                </a:moveTo>
                <a:lnTo>
                  <a:pt x="26747" y="0"/>
                </a:lnTo>
                <a:lnTo>
                  <a:pt x="26747" y="21600"/>
                </a:lnTo>
                <a:lnTo>
                  <a:pt x="0" y="21600"/>
                </a:lnTo>
                <a:close/>
              </a:path>
              <a:path fill="lightenLess" w="26747" h="21600">
                <a:moveTo>
                  <a:pt x="0" y="0"/>
                </a:moveTo>
                <a:lnTo>
                  <a:pt x="26747" y="0"/>
                </a:lnTo>
                <a:lnTo>
                  <a:pt x="25347" y="1400"/>
                </a:lnTo>
                <a:lnTo>
                  <a:pt x="1400" y="1400"/>
                </a:lnTo>
                <a:close/>
              </a:path>
              <a:path fill="darken" w="26747" h="21600">
                <a:moveTo>
                  <a:pt x="26747" y="0"/>
                </a:moveTo>
                <a:lnTo>
                  <a:pt x="26747" y="21600"/>
                </a:lnTo>
                <a:lnTo>
                  <a:pt x="25347" y="20200"/>
                </a:lnTo>
                <a:lnTo>
                  <a:pt x="25347" y="1400"/>
                </a:lnTo>
                <a:close/>
              </a:path>
              <a:path fill="darkenLess" w="26747" h="21600">
                <a:moveTo>
                  <a:pt x="267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47" y="20200"/>
                </a:lnTo>
                <a:close/>
              </a:path>
              <a:path fill="lighten" w="267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8" action="ppaction://hlinksldjump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4800600"/>
            <a:ext cx="914400" cy="738360"/>
          </a:xfrm>
          <a:custGeom>
            <a:avLst/>
            <a:gdLst>
              <a:gd name="textAreaLeft" fmla="*/ 47520 w 914400"/>
              <a:gd name="textAreaRight" fmla="*/ 866880 w 914400"/>
              <a:gd name="textAreaTop" fmla="*/ 47520 h 738360"/>
              <a:gd name="textAreaBottom" fmla="*/ 690840 h 738360"/>
            </a:gdLst>
            <a:ahLst/>
            <a:rect l="textAreaLeft" t="textAreaTop" r="textAreaRight" b="textAreaBottom"/>
            <a:pathLst>
              <a:path w="26747" h="21600">
                <a:moveTo>
                  <a:pt x="0" y="0"/>
                </a:moveTo>
                <a:lnTo>
                  <a:pt x="26747" y="0"/>
                </a:lnTo>
                <a:lnTo>
                  <a:pt x="26747" y="21600"/>
                </a:lnTo>
                <a:lnTo>
                  <a:pt x="0" y="21600"/>
                </a:lnTo>
                <a:close/>
              </a:path>
              <a:path fill="lightenLess" w="26747" h="21600">
                <a:moveTo>
                  <a:pt x="0" y="0"/>
                </a:moveTo>
                <a:lnTo>
                  <a:pt x="26747" y="0"/>
                </a:lnTo>
                <a:lnTo>
                  <a:pt x="25347" y="1400"/>
                </a:lnTo>
                <a:lnTo>
                  <a:pt x="1400" y="1400"/>
                </a:lnTo>
                <a:close/>
              </a:path>
              <a:path fill="darken" w="26747" h="21600">
                <a:moveTo>
                  <a:pt x="26747" y="0"/>
                </a:moveTo>
                <a:lnTo>
                  <a:pt x="26747" y="21600"/>
                </a:lnTo>
                <a:lnTo>
                  <a:pt x="25347" y="20200"/>
                </a:lnTo>
                <a:lnTo>
                  <a:pt x="25347" y="1400"/>
                </a:lnTo>
                <a:close/>
              </a:path>
              <a:path fill="darkenLess" w="26747" h="21600">
                <a:moveTo>
                  <a:pt x="267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47" y="20200"/>
                </a:lnTo>
                <a:close/>
              </a:path>
              <a:path fill="lighten" w="267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29000" y="4800600"/>
            <a:ext cx="914400" cy="738360"/>
          </a:xfrm>
          <a:custGeom>
            <a:avLst/>
            <a:gdLst>
              <a:gd name="textAreaLeft" fmla="*/ 47520 w 914400"/>
              <a:gd name="textAreaRight" fmla="*/ 866880 w 914400"/>
              <a:gd name="textAreaTop" fmla="*/ 47520 h 738360"/>
              <a:gd name="textAreaBottom" fmla="*/ 690840 h 738360"/>
            </a:gdLst>
            <a:ahLst/>
            <a:rect l="textAreaLeft" t="textAreaTop" r="textAreaRight" b="textAreaBottom"/>
            <a:pathLst>
              <a:path w="26747" h="21600">
                <a:moveTo>
                  <a:pt x="0" y="0"/>
                </a:moveTo>
                <a:lnTo>
                  <a:pt x="26747" y="0"/>
                </a:lnTo>
                <a:lnTo>
                  <a:pt x="26747" y="21600"/>
                </a:lnTo>
                <a:lnTo>
                  <a:pt x="0" y="21600"/>
                </a:lnTo>
                <a:close/>
              </a:path>
              <a:path fill="lightenLess" w="26747" h="21600">
                <a:moveTo>
                  <a:pt x="0" y="0"/>
                </a:moveTo>
                <a:lnTo>
                  <a:pt x="26747" y="0"/>
                </a:lnTo>
                <a:lnTo>
                  <a:pt x="25347" y="1400"/>
                </a:lnTo>
                <a:lnTo>
                  <a:pt x="1400" y="1400"/>
                </a:lnTo>
                <a:close/>
              </a:path>
              <a:path fill="darken" w="26747" h="21600">
                <a:moveTo>
                  <a:pt x="26747" y="0"/>
                </a:moveTo>
                <a:lnTo>
                  <a:pt x="26747" y="21600"/>
                </a:lnTo>
                <a:lnTo>
                  <a:pt x="25347" y="20200"/>
                </a:lnTo>
                <a:lnTo>
                  <a:pt x="25347" y="1400"/>
                </a:lnTo>
                <a:close/>
              </a:path>
              <a:path fill="darkenLess" w="26747" h="21600">
                <a:moveTo>
                  <a:pt x="267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47" y="20200"/>
                </a:lnTo>
                <a:close/>
              </a:path>
              <a:path fill="lighten" w="267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9" action="ppaction://hlinksldjump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52880" y="4800600"/>
            <a:ext cx="914400" cy="738360"/>
          </a:xfrm>
          <a:custGeom>
            <a:avLst/>
            <a:gdLst>
              <a:gd name="textAreaLeft" fmla="*/ 47520 w 914400"/>
              <a:gd name="textAreaRight" fmla="*/ 866880 w 914400"/>
              <a:gd name="textAreaTop" fmla="*/ 47520 h 738360"/>
              <a:gd name="textAreaBottom" fmla="*/ 690840 h 738360"/>
            </a:gdLst>
            <a:ahLst/>
            <a:rect l="textAreaLeft" t="textAreaTop" r="textAreaRight" b="textAreaBottom"/>
            <a:pathLst>
              <a:path w="26747" h="21600">
                <a:moveTo>
                  <a:pt x="0" y="0"/>
                </a:moveTo>
                <a:lnTo>
                  <a:pt x="26747" y="0"/>
                </a:lnTo>
                <a:lnTo>
                  <a:pt x="26747" y="21600"/>
                </a:lnTo>
                <a:lnTo>
                  <a:pt x="0" y="21600"/>
                </a:lnTo>
                <a:close/>
              </a:path>
              <a:path fill="lightenLess" w="26747" h="21600">
                <a:moveTo>
                  <a:pt x="0" y="0"/>
                </a:moveTo>
                <a:lnTo>
                  <a:pt x="26747" y="0"/>
                </a:lnTo>
                <a:lnTo>
                  <a:pt x="25347" y="1400"/>
                </a:lnTo>
                <a:lnTo>
                  <a:pt x="1400" y="1400"/>
                </a:lnTo>
                <a:close/>
              </a:path>
              <a:path fill="darken" w="26747" h="21600">
                <a:moveTo>
                  <a:pt x="26747" y="0"/>
                </a:moveTo>
                <a:lnTo>
                  <a:pt x="26747" y="21600"/>
                </a:lnTo>
                <a:lnTo>
                  <a:pt x="25347" y="20200"/>
                </a:lnTo>
                <a:lnTo>
                  <a:pt x="25347" y="1400"/>
                </a:lnTo>
                <a:close/>
              </a:path>
              <a:path fill="darkenLess" w="26747" h="21600">
                <a:moveTo>
                  <a:pt x="267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47" y="20200"/>
                </a:lnTo>
                <a:close/>
              </a:path>
              <a:path fill="lighten" w="267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0" action="ppaction://hlinksldjump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477120" y="4800600"/>
            <a:ext cx="914400" cy="738360"/>
          </a:xfrm>
          <a:custGeom>
            <a:avLst/>
            <a:gdLst>
              <a:gd name="textAreaLeft" fmla="*/ 47520 w 914400"/>
              <a:gd name="textAreaRight" fmla="*/ 866880 w 914400"/>
              <a:gd name="textAreaTop" fmla="*/ 47520 h 738360"/>
              <a:gd name="textAreaBottom" fmla="*/ 690840 h 738360"/>
            </a:gdLst>
            <a:ahLst/>
            <a:rect l="textAreaLeft" t="textAreaTop" r="textAreaRight" b="textAreaBottom"/>
            <a:pathLst>
              <a:path w="26747" h="21600">
                <a:moveTo>
                  <a:pt x="0" y="0"/>
                </a:moveTo>
                <a:lnTo>
                  <a:pt x="26747" y="0"/>
                </a:lnTo>
                <a:lnTo>
                  <a:pt x="26747" y="21600"/>
                </a:lnTo>
                <a:lnTo>
                  <a:pt x="0" y="21600"/>
                </a:lnTo>
                <a:close/>
              </a:path>
              <a:path fill="lightenLess" w="26747" h="21600">
                <a:moveTo>
                  <a:pt x="0" y="0"/>
                </a:moveTo>
                <a:lnTo>
                  <a:pt x="26747" y="0"/>
                </a:lnTo>
                <a:lnTo>
                  <a:pt x="25347" y="1400"/>
                </a:lnTo>
                <a:lnTo>
                  <a:pt x="1400" y="1400"/>
                </a:lnTo>
                <a:close/>
              </a:path>
              <a:path fill="darken" w="26747" h="21600">
                <a:moveTo>
                  <a:pt x="26747" y="0"/>
                </a:moveTo>
                <a:lnTo>
                  <a:pt x="26747" y="21600"/>
                </a:lnTo>
                <a:lnTo>
                  <a:pt x="25347" y="20200"/>
                </a:lnTo>
                <a:lnTo>
                  <a:pt x="25347" y="1400"/>
                </a:lnTo>
                <a:close/>
              </a:path>
              <a:path fill="darkenLess" w="26747" h="21600">
                <a:moveTo>
                  <a:pt x="267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47" y="20200"/>
                </a:lnTo>
                <a:close/>
              </a:path>
              <a:path fill="lighten" w="267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924680" y="4800600"/>
            <a:ext cx="914400" cy="738360"/>
          </a:xfrm>
          <a:custGeom>
            <a:avLst/>
            <a:gdLst>
              <a:gd name="textAreaLeft" fmla="*/ 47520 w 914400"/>
              <a:gd name="textAreaRight" fmla="*/ 866880 w 914400"/>
              <a:gd name="textAreaTop" fmla="*/ 47520 h 738360"/>
              <a:gd name="textAreaBottom" fmla="*/ 690840 h 738360"/>
            </a:gdLst>
            <a:ahLst/>
            <a:rect l="textAreaLeft" t="textAreaTop" r="textAreaRight" b="textAreaBottom"/>
            <a:pathLst>
              <a:path w="26747" h="21600">
                <a:moveTo>
                  <a:pt x="0" y="0"/>
                </a:moveTo>
                <a:lnTo>
                  <a:pt x="26747" y="0"/>
                </a:lnTo>
                <a:lnTo>
                  <a:pt x="26747" y="21600"/>
                </a:lnTo>
                <a:lnTo>
                  <a:pt x="0" y="21600"/>
                </a:lnTo>
                <a:close/>
              </a:path>
              <a:path fill="lightenLess" w="26747" h="21600">
                <a:moveTo>
                  <a:pt x="0" y="0"/>
                </a:moveTo>
                <a:lnTo>
                  <a:pt x="26747" y="0"/>
                </a:lnTo>
                <a:lnTo>
                  <a:pt x="25347" y="1400"/>
                </a:lnTo>
                <a:lnTo>
                  <a:pt x="1400" y="1400"/>
                </a:lnTo>
                <a:close/>
              </a:path>
              <a:path fill="darken" w="26747" h="21600">
                <a:moveTo>
                  <a:pt x="26747" y="0"/>
                </a:moveTo>
                <a:lnTo>
                  <a:pt x="26747" y="21600"/>
                </a:lnTo>
                <a:lnTo>
                  <a:pt x="25347" y="20200"/>
                </a:lnTo>
                <a:lnTo>
                  <a:pt x="25347" y="1400"/>
                </a:lnTo>
                <a:close/>
              </a:path>
              <a:path fill="darkenLess" w="26747" h="21600">
                <a:moveTo>
                  <a:pt x="267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47" y="20200"/>
                </a:lnTo>
                <a:close/>
              </a:path>
              <a:path fill="lighten" w="267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1" action="ppaction://hlinksldjump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28800" y="5791320"/>
            <a:ext cx="914400" cy="738000"/>
          </a:xfrm>
          <a:custGeom>
            <a:avLst/>
            <a:gdLst>
              <a:gd name="textAreaLeft" fmla="*/ 47520 w 914400"/>
              <a:gd name="textAreaRight" fmla="*/ 866880 w 914400"/>
              <a:gd name="textAreaTop" fmla="*/ 47520 h 738000"/>
              <a:gd name="textAreaBottom" fmla="*/ 690480 h 738000"/>
            </a:gdLst>
            <a:ahLst/>
            <a:rect l="textAreaLeft" t="textAreaTop" r="textAreaRight" b="textAreaBottom"/>
            <a:pathLst>
              <a:path w="26760" h="21600">
                <a:moveTo>
                  <a:pt x="0" y="0"/>
                </a:moveTo>
                <a:lnTo>
                  <a:pt x="26760" y="0"/>
                </a:lnTo>
                <a:lnTo>
                  <a:pt x="26760" y="21600"/>
                </a:lnTo>
                <a:lnTo>
                  <a:pt x="0" y="21600"/>
                </a:lnTo>
                <a:close/>
              </a:path>
              <a:path fill="lightenLess" w="26760" h="21600">
                <a:moveTo>
                  <a:pt x="0" y="0"/>
                </a:moveTo>
                <a:lnTo>
                  <a:pt x="26760" y="0"/>
                </a:lnTo>
                <a:lnTo>
                  <a:pt x="25360" y="1400"/>
                </a:lnTo>
                <a:lnTo>
                  <a:pt x="1400" y="1400"/>
                </a:lnTo>
                <a:close/>
              </a:path>
              <a:path fill="darken" w="26760" h="21600">
                <a:moveTo>
                  <a:pt x="26760" y="0"/>
                </a:moveTo>
                <a:lnTo>
                  <a:pt x="26760" y="21600"/>
                </a:lnTo>
                <a:lnTo>
                  <a:pt x="25360" y="20200"/>
                </a:lnTo>
                <a:lnTo>
                  <a:pt x="25360" y="1400"/>
                </a:lnTo>
                <a:close/>
              </a:path>
              <a:path fill="darkenLess" w="26760" h="21600">
                <a:moveTo>
                  <a:pt x="267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60" y="20200"/>
                </a:lnTo>
                <a:close/>
              </a:path>
              <a:path fill="lighten" w="267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2" action="ppaction://hlinksldjump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791320"/>
            <a:ext cx="914400" cy="738000"/>
          </a:xfrm>
          <a:custGeom>
            <a:avLst/>
            <a:gdLst>
              <a:gd name="textAreaLeft" fmla="*/ 47520 w 914400"/>
              <a:gd name="textAreaRight" fmla="*/ 866880 w 914400"/>
              <a:gd name="textAreaTop" fmla="*/ 47520 h 738000"/>
              <a:gd name="textAreaBottom" fmla="*/ 690480 h 738000"/>
            </a:gdLst>
            <a:ahLst/>
            <a:rect l="textAreaLeft" t="textAreaTop" r="textAreaRight" b="textAreaBottom"/>
            <a:pathLst>
              <a:path w="26760" h="21600">
                <a:moveTo>
                  <a:pt x="0" y="0"/>
                </a:moveTo>
                <a:lnTo>
                  <a:pt x="26760" y="0"/>
                </a:lnTo>
                <a:lnTo>
                  <a:pt x="26760" y="21600"/>
                </a:lnTo>
                <a:lnTo>
                  <a:pt x="0" y="21600"/>
                </a:lnTo>
                <a:close/>
              </a:path>
              <a:path fill="lightenLess" w="26760" h="21600">
                <a:moveTo>
                  <a:pt x="0" y="0"/>
                </a:moveTo>
                <a:lnTo>
                  <a:pt x="26760" y="0"/>
                </a:lnTo>
                <a:lnTo>
                  <a:pt x="25360" y="1400"/>
                </a:lnTo>
                <a:lnTo>
                  <a:pt x="1400" y="1400"/>
                </a:lnTo>
                <a:close/>
              </a:path>
              <a:path fill="darken" w="26760" h="21600">
                <a:moveTo>
                  <a:pt x="26760" y="0"/>
                </a:moveTo>
                <a:lnTo>
                  <a:pt x="26760" y="21600"/>
                </a:lnTo>
                <a:lnTo>
                  <a:pt x="25360" y="20200"/>
                </a:lnTo>
                <a:lnTo>
                  <a:pt x="25360" y="1400"/>
                </a:lnTo>
                <a:close/>
              </a:path>
              <a:path fill="darkenLess" w="26760" h="21600">
                <a:moveTo>
                  <a:pt x="267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60" y="20200"/>
                </a:lnTo>
                <a:close/>
              </a:path>
              <a:path fill="lighten" w="267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3" action="ppaction://hlinksldjump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77120" y="5791320"/>
            <a:ext cx="914400" cy="738000"/>
          </a:xfrm>
          <a:custGeom>
            <a:avLst/>
            <a:gdLst>
              <a:gd name="textAreaLeft" fmla="*/ 47520 w 914400"/>
              <a:gd name="textAreaRight" fmla="*/ 866880 w 914400"/>
              <a:gd name="textAreaTop" fmla="*/ 47520 h 738000"/>
              <a:gd name="textAreaBottom" fmla="*/ 690480 h 738000"/>
            </a:gdLst>
            <a:ahLst/>
            <a:rect l="textAreaLeft" t="textAreaTop" r="textAreaRight" b="textAreaBottom"/>
            <a:pathLst>
              <a:path w="26760" h="21600">
                <a:moveTo>
                  <a:pt x="0" y="0"/>
                </a:moveTo>
                <a:lnTo>
                  <a:pt x="26760" y="0"/>
                </a:lnTo>
                <a:lnTo>
                  <a:pt x="26760" y="21600"/>
                </a:lnTo>
                <a:lnTo>
                  <a:pt x="0" y="21600"/>
                </a:lnTo>
                <a:close/>
              </a:path>
              <a:path fill="lightenLess" w="26760" h="21600">
                <a:moveTo>
                  <a:pt x="0" y="0"/>
                </a:moveTo>
                <a:lnTo>
                  <a:pt x="26760" y="0"/>
                </a:lnTo>
                <a:lnTo>
                  <a:pt x="25360" y="1400"/>
                </a:lnTo>
                <a:lnTo>
                  <a:pt x="1400" y="1400"/>
                </a:lnTo>
                <a:close/>
              </a:path>
              <a:path fill="darken" w="26760" h="21600">
                <a:moveTo>
                  <a:pt x="26760" y="0"/>
                </a:moveTo>
                <a:lnTo>
                  <a:pt x="26760" y="21600"/>
                </a:lnTo>
                <a:lnTo>
                  <a:pt x="25360" y="20200"/>
                </a:lnTo>
                <a:lnTo>
                  <a:pt x="25360" y="1400"/>
                </a:lnTo>
                <a:close/>
              </a:path>
              <a:path fill="darkenLess" w="26760" h="21600">
                <a:moveTo>
                  <a:pt x="267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60" y="20200"/>
                </a:lnTo>
                <a:close/>
              </a:path>
              <a:path fill="lighten" w="267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4" action="ppaction://hlinksldjump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952880" y="5791320"/>
            <a:ext cx="914400" cy="738000"/>
          </a:xfrm>
          <a:custGeom>
            <a:avLst/>
            <a:gdLst>
              <a:gd name="textAreaLeft" fmla="*/ 47520 w 914400"/>
              <a:gd name="textAreaRight" fmla="*/ 866880 w 914400"/>
              <a:gd name="textAreaTop" fmla="*/ 47520 h 738000"/>
              <a:gd name="textAreaBottom" fmla="*/ 690480 h 738000"/>
            </a:gdLst>
            <a:ahLst/>
            <a:rect l="textAreaLeft" t="textAreaTop" r="textAreaRight" b="textAreaBottom"/>
            <a:pathLst>
              <a:path w="26760" h="21600">
                <a:moveTo>
                  <a:pt x="0" y="0"/>
                </a:moveTo>
                <a:lnTo>
                  <a:pt x="26760" y="0"/>
                </a:lnTo>
                <a:lnTo>
                  <a:pt x="26760" y="21600"/>
                </a:lnTo>
                <a:lnTo>
                  <a:pt x="0" y="21600"/>
                </a:lnTo>
                <a:close/>
              </a:path>
              <a:path fill="lightenLess" w="26760" h="21600">
                <a:moveTo>
                  <a:pt x="0" y="0"/>
                </a:moveTo>
                <a:lnTo>
                  <a:pt x="26760" y="0"/>
                </a:lnTo>
                <a:lnTo>
                  <a:pt x="25360" y="1400"/>
                </a:lnTo>
                <a:lnTo>
                  <a:pt x="1400" y="1400"/>
                </a:lnTo>
                <a:close/>
              </a:path>
              <a:path fill="darken" w="26760" h="21600">
                <a:moveTo>
                  <a:pt x="26760" y="0"/>
                </a:moveTo>
                <a:lnTo>
                  <a:pt x="26760" y="21600"/>
                </a:lnTo>
                <a:lnTo>
                  <a:pt x="25360" y="20200"/>
                </a:lnTo>
                <a:lnTo>
                  <a:pt x="25360" y="1400"/>
                </a:lnTo>
                <a:close/>
              </a:path>
              <a:path fill="darkenLess" w="26760" h="21600">
                <a:moveTo>
                  <a:pt x="267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60" y="20200"/>
                </a:lnTo>
                <a:close/>
              </a:path>
              <a:path fill="lighten" w="267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5" action="ppaction://hlinksldjump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924680" y="5791320"/>
            <a:ext cx="914400" cy="738000"/>
          </a:xfrm>
          <a:custGeom>
            <a:avLst/>
            <a:gdLst>
              <a:gd name="textAreaLeft" fmla="*/ 47520 w 914400"/>
              <a:gd name="textAreaRight" fmla="*/ 866880 w 914400"/>
              <a:gd name="textAreaTop" fmla="*/ 47520 h 738000"/>
              <a:gd name="textAreaBottom" fmla="*/ 690480 h 738000"/>
            </a:gdLst>
            <a:ahLst/>
            <a:rect l="textAreaLeft" t="textAreaTop" r="textAreaRight" b="textAreaBottom"/>
            <a:pathLst>
              <a:path w="26760" h="21600">
                <a:moveTo>
                  <a:pt x="0" y="0"/>
                </a:moveTo>
                <a:lnTo>
                  <a:pt x="26760" y="0"/>
                </a:lnTo>
                <a:lnTo>
                  <a:pt x="26760" y="21600"/>
                </a:lnTo>
                <a:lnTo>
                  <a:pt x="0" y="21600"/>
                </a:lnTo>
                <a:close/>
              </a:path>
              <a:path fill="lightenLess" w="26760" h="21600">
                <a:moveTo>
                  <a:pt x="0" y="0"/>
                </a:moveTo>
                <a:lnTo>
                  <a:pt x="26760" y="0"/>
                </a:lnTo>
                <a:lnTo>
                  <a:pt x="25360" y="1400"/>
                </a:lnTo>
                <a:lnTo>
                  <a:pt x="1400" y="1400"/>
                </a:lnTo>
                <a:close/>
              </a:path>
              <a:path fill="darken" w="26760" h="21600">
                <a:moveTo>
                  <a:pt x="26760" y="0"/>
                </a:moveTo>
                <a:lnTo>
                  <a:pt x="26760" y="21600"/>
                </a:lnTo>
                <a:lnTo>
                  <a:pt x="25360" y="20200"/>
                </a:lnTo>
                <a:lnTo>
                  <a:pt x="25360" y="1400"/>
                </a:lnTo>
                <a:close/>
              </a:path>
              <a:path fill="darkenLess" w="26760" h="21600">
                <a:moveTo>
                  <a:pt x="267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60" y="20200"/>
                </a:lnTo>
                <a:close/>
              </a:path>
              <a:path fill="lighten" w="267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6" action="ppaction://hlinksldjump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00 1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*7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00 1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*7=2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0 2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cramble the word                                                                uosx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0 2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x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 2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spell my na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 2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00 2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nou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00 2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erson, place,thing, or id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00 2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cramble the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taeo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00 2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co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0 1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*5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00 2 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ne is a verb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c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00 2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sk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0 3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was th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esid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0 3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rge Washing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 3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UBLE JEOPAR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invented electricit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2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 3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mas Edis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00 3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as the 5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00 3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wa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00 3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his an opinion or a fa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like electric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00 3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i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0 1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*5=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00 3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electricity dangero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00 3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0 4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definition for anxio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0 4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 4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definition of cornucop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 4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rn of plen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00 4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definition of maiz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00 4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an co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00 4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definition of pilgri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00 4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means  traveler, wanderer, foreig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 1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4/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00 4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fea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00 4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a festive ceremon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0 5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UBLE JEOPAR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second planet from the su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2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0 5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 5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name of the air we brea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 5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00 5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planets are in our Solar Syst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hem on your white boa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00 5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c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n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pi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t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an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ptu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u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00 5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ype of penguins live in the north po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00 5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 1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4/8=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00 5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olor is your blood in your body?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00 5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u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0 6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as your reading story last wee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0 6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ricket in time squ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 6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Baudelaire’s nam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 6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olet, Klas,Sunn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00 6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mouse's name in the cricket in time squa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00 6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ck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00 6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is the bad gu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story “Series of Unfortunate Events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00 6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nt Ola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00 1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4/4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00 6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Violets’ aunts na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00 6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nt Josep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00 1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4/4=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00 1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*22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00 1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*22=2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7T15:11:57Z</dcterms:created>
  <dc:creator>WHS</dc:creator>
  <dc:description/>
  <dc:language>en-US</dc:language>
  <cp:lastModifiedBy>WHS</cp:lastModifiedBy>
  <dcterms:modified xsi:type="dcterms:W3CDTF">2006-11-29T17:27:06Z</dcterms:modified>
  <cp:revision>13</cp:revision>
  <dc:subject/>
  <dc:title>Slide 1</dc:title>
</cp:coreProperties>
</file>