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9.wmf" ContentType="image/x-wmf"/>
  <Override PartName="/ppt/media/image7.wmf" ContentType="image/x-wmf"/>
  <Override PartName="/ppt/media/image12.wmf" ContentType="image/x-wmf"/>
  <Override PartName="/ppt/media/image4.jpeg" ContentType="image/jpeg"/>
  <Override PartName="/ppt/media/image10.wmf" ContentType="image/x-wmf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E74-5D33-4545-A6F5-2AB1D8A3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8FE-7875-4F3B-A3F1-8C0353EE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1C9-8DA4-4889-A308-12117261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880-3AAA-4D2B-AFBA-86C6EF1D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7FFB-88E6-4D81-B035-89240861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5E5-ABD7-41BD-A95A-8AFBFA4B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BFA-3A7D-44C4-9710-2E8D4ECE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39D-EE3C-460B-91F4-50D2092A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55F-3C40-408A-93FB-87AA2177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6AB2-2100-4438-936C-BB6B2385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1FA-59DC-4D63-BF16-84321CF5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C40-FAFC-4871-AADF-40839438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2D52-A4AD-4A45-8263-5AE2B42F4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sh Gr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re where the blackbir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ion of “it 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876920" y="2590920"/>
            <a:ext cx="33177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arbl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nch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b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g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ch warble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ch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h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ttract or de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2813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sh grove,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ncha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ha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ting a sp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10080" y="2971800"/>
            <a:ext cx="22003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pel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eauty for 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up to; signif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3429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soft whisper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ed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ond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een valle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n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902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streamlets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der aimles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08600" y="2438280"/>
            <a:ext cx="3414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wiligh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f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, diffused light of evening or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3657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ensive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tful; lost in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10080" y="2666880"/>
            <a:ext cx="2438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pensively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der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3353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 at the bright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oon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on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3200400"/>
            <a:ext cx="1904760" cy="1860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365148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olitud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86200" y="2438280"/>
            <a:ext cx="50292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mi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e dark shad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; surround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048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0:34:58Z</dcterms:created>
  <dc:creator> </dc:creator>
  <dc:description/>
  <dc:language>en-US</dc:language>
  <cp:lastModifiedBy>Marshall</cp:lastModifiedBy>
  <dcterms:modified xsi:type="dcterms:W3CDTF">2008-02-25T13:00:45Z</dcterms:modified>
  <cp:revision>34</cp:revision>
  <dc:subject/>
  <dc:title>The Ash Grove</dc:title>
</cp:coreProperties>
</file>