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926-94A9-4A52-84DC-2A19720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507-8975-4F30-A0F6-0922C1F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D39-8C7B-42BD-8563-B10C04AD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A4-B500-4439-A3BE-99DB6F0C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67C6-206F-4EE6-AB46-095E0EA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D17-2D61-4664-86CB-4A5713D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7CB-4F88-4E84-A9A0-2DCA71D5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1F9-D724-40B0-BAE3-B63A682B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D9A-9553-49DE-8611-EEF5E4A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0B7-7F72-4284-A7C3-D74AD11B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C4C-294D-4A27-857B-35B5968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508-254D-4906-BD1E-B27CB667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6545-6BE4-4BFA-883A-E6A88661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h G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re where the blackbi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 of “it 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317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rb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nc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b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warbl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ttract or d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2813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h grove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h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 a s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22003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e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auty for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up to; sign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oft whisper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d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een valle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02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streamlet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er aimles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08600" y="2438280"/>
            <a:ext cx="3414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il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f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, diffused light of evening or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nsive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; lost in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ensively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er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at the brigh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on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on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1904760" cy="1860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6514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itu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5029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m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ark sha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; surround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048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0:34:58Z</dcterms:created>
  <dc:creator> </dc:creator>
  <dc:description/>
  <dc:language>en-US</dc:language>
  <cp:lastModifiedBy>Marshall</cp:lastModifiedBy>
  <dcterms:modified xsi:type="dcterms:W3CDTF">2008-02-25T13:00:45Z</dcterms:modified>
  <cp:revision>34</cp:revision>
  <dc:subject/>
  <dc:title>The Ash Grove</dc:title>
</cp:coreProperties>
</file>