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1EE1-3C23-4CD2-BE68-D84BF60B7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A98E-CDCB-4036-A830-BD44865E0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3A28-94C5-4038-B6CC-BAC30E615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2FD0-28CF-4BBD-A214-A8391234B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AB0A3-CD72-4823-92E5-CACED95FB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6CFD7-D983-4C01-97C2-3D725A469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12C74-139C-4CEE-A854-46712023C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5040B-6266-423C-9931-B36D7B1DD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77211-184B-4D92-9DD4-CD73AB2E4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FE88F-4D90-4924-A66D-7B950955F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0D204-F2A5-4FF3-BFC0-BA9012B8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9442-2554-4C75-81CE-74C5DBD19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191D5-FDCC-44B6-AAD5-A45B3CE1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B5B17-119B-42F3-AB18-BE2D8351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A9B66-D40E-4E4F-9A51-DBC8C14EB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BB674-CCF4-4713-B741-F68B3221E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E6120-421D-4F12-AD86-288D136AE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0C0E1-F7EA-4BE2-8476-F4EE9A736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65D67-A0E3-46BE-B124-BE2FFDC30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4BD73-A21B-4CF7-AD2A-9B131FC1C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AB1C9-429D-457D-807E-AA0881DB1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E9886-0B82-4890-8854-9CBAE51FE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A604-B4A6-4276-84AE-4DF4514C3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EE3E2-A676-4333-B7AD-4FDDD24FE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6EA54-B33C-40DE-8621-A2B734BC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A3C99-0781-4924-B597-4C059F62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F3EA0-649B-4FA4-A464-A8D1AD39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1ECCD-6745-4DCB-89F6-51298C1F5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2FF1C-E50F-4203-99B9-BD8D40443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9E77F-BA60-45AD-97EC-92732258F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19B01-B6A6-43BC-BFB6-783AF2ED2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D75EB-BF73-4DB1-8561-4B98EEF0D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99F7F-6936-44EF-9AEC-1C96F423A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F4BD-3D00-4661-8497-9E7AAEE50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022B9-32A0-4AFB-9825-43743FC2B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CE016-A44F-4017-A584-1618CEEB2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B5996-F253-4AD9-AA80-6F35A1DE0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E3AFD-C8EA-433E-81DC-D6E7D157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D2E17-C0AD-420B-85C2-C99AE15D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0BD0C-FD47-4060-A124-6E88F57B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EDA39-59BA-4EB9-9CE5-78F16ECDA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941C5-5CA9-47EB-BDCB-CDF9E2A43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F8478-E3D4-426E-9587-8614091D8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204D2-E951-48E5-B2CB-FBFF96A3D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99DD-B14E-432E-972F-5C9711B75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F6773-8081-4633-9223-53DAE971F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037CD-5841-4BDB-B839-D635D6EFA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C91F6-85B1-49BB-BE6B-D26DBD578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26708-9D29-407C-A8B3-9B14C8193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5ECB3-4510-4867-A33A-D259F843D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1A08F-08D6-4203-94F8-4F663990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E8E83-7C8A-4CC8-9313-63A13C3E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4EE0F-1502-4C4E-9CBB-17BDDA95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D7472-1C70-4795-B798-32043E3B3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2037F-3AC2-4A15-BB44-EE657A5CB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851F-7D10-498D-825F-0A3802F1D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13F69-AFFA-49C9-A6FF-D3742B36F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6494E-F1B0-491C-8D4D-34330A579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9DC318-9530-45A5-897D-BEECAFD1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BD59A-C6E4-451D-BC27-F28E61C4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205AE-1744-432C-8443-89282D34E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ABFF4-CD33-45CD-B507-5E86D2834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A5276-47EE-46CF-8218-E3F07D0B2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B49BC-F676-48D7-8023-0D74E9D6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69CC0-864C-4624-BBFE-8169B8EC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DC75B-062A-4C20-B470-3435B104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782B-9336-4E31-AF78-EB122289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8320B-F98A-4F92-AECA-0C8A94100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AAE937-93BC-407B-BF22-9CFF39844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A5BC5-0A3D-422F-BE42-E0CA0F361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AACD-58A8-4D01-90FF-CBA3EA60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5F2C-5E99-4CDE-AF09-CB4F5982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B5646-EBAD-4A42-A7E7-F66E8ABCAD4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B1739-D3F6-4F00-AC25-9C5A9A631DA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63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9D571-2E60-496F-A8A7-3870B973B3D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1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292C2-6004-477B-9335-5709951ABAC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260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464AF-314D-4971-AD5B-A6B86DAF10F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305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6C6BF-D598-4FF9-90F4-22A4F554E8A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Volcano Unit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th’s Lay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cks and Miner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lcano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1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ner C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uter C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an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ru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2514600" y="380880"/>
            <a:ext cx="3962520" cy="88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30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Jokerman"/>
              </a:rPr>
              <a:t>Earth's Cru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Jokerman"/>
              <a:ea typeface="Joker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5"/>
          <a:stretch/>
        </p:blipFill>
        <p:spPr>
          <a:xfrm>
            <a:off x="4678200" y="1684440"/>
            <a:ext cx="399096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b2b2b2"/>
                </a:solidFill>
                <a:latin typeface="Arial"/>
              </a:rPr>
              <a:t>Rocks</a:t>
            </a:r>
            <a:endParaRPr b="0" lang="en-US" sz="7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2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gneous Ro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dimentary Ro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amorphic Ro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861080" y="1600200"/>
            <a:ext cx="36241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Volcanoe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660560" y="1599840"/>
            <a:ext cx="402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gma Cham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va f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de v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6"/>
          <a:stretch/>
        </p:blipFill>
        <p:spPr>
          <a:xfrm>
            <a:off x="571680" y="1676520"/>
            <a:ext cx="38098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7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5106600" y="1827360"/>
            <a:ext cx="3576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01:46:50Z</dcterms:created>
  <dc:creator>Cmoss</dc:creator>
  <dc:description/>
  <dc:language>en-US</dc:language>
  <cp:lastModifiedBy>Cmoss</cp:lastModifiedBy>
  <dcterms:modified xsi:type="dcterms:W3CDTF">2008-03-18T02:58:33Z</dcterms:modified>
  <cp:revision>5</cp:revision>
  <dc:subject/>
  <dc:title>Rocks</dc:title>
</cp:coreProperties>
</file>