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16F0-6A81-4556-8A8D-B281BBF6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9FF1-D537-4240-B9F9-8022A682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E7DC-58B0-407B-9444-17159794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578-0D70-4F4E-84FE-DAF70B64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527C-3408-4C4A-90AA-243F5F6F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D536-B59D-49A9-9746-49896D5B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457A-727D-4EDF-B0AB-6706106E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C317-2DF9-433A-B134-8652D8D0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273C-0C7C-41D8-A107-43D4A511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F906-74AD-428C-8833-15458ACD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463D-87E0-4A13-BF17-4ABFD9AC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750-5203-4D0E-9058-A4CDC4F6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88F3-119A-4B71-BE0E-8F667C2E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24AE-6D66-47BA-A771-F3A7CBD6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3DE1-3524-4581-96F1-02DA5BDC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3619-26C0-4821-ABC3-38FF8A45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20EA-7A47-4BD2-9269-C1F80876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D1247-E29A-469C-8D1E-5B47C37B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6F781-8B26-47CC-AC01-BCCC1F74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DC859-E17D-4182-B41C-850FF3AE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DE5CA-1787-48BE-83EC-DB286AD5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1BB50-5358-438D-A04A-57BFAC01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8E81-3891-4A17-9117-32BFD874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11FF8-8D7E-413F-B577-360DDE43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DA2F-F81D-4128-8BD6-98B99925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421DE-42A5-428D-8A0C-AD9EBAC0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20E6F-616D-41E3-81E3-B9DD7AE1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B69F6-C2CE-4494-A56C-83BE08EC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84C8F-5AC3-48C6-AAA9-D0D112BD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6FAF5-9710-41EE-B557-BA899D08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B8FAC-18D3-4AA4-8AFD-5BCD2CF6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A7F75-A245-4FD4-8DF0-767BD9A3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1C82D-A742-4941-961A-98303287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B89A-1F45-4201-99C9-3B9E1E58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3A7C9-C6B9-4935-A7F1-1403A9AF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81DF2-7490-431C-93A6-3203B10F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B196C-299C-4682-A2E8-CCAE37AA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65095-BC3A-4DA0-806D-36FFD375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5ABA8-93F1-4216-91F7-858B5760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B5BA5-90DB-47FA-8B30-4EB27686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45CE7-BE06-4A3C-98F4-DE37064A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EE3AE-0469-4EE9-8888-952D7214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5449B-646A-4D69-A127-747F8A37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7512B-DCCE-4F3B-989F-89E5E10F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20D-1FB9-4B27-8AAE-790CD8D7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9AF6A-0B31-4420-913C-C4BE2A2D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4E419-327C-455F-A70B-5A95EE91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B72B3-49A7-4C6E-9B03-E50321FE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8B0A3-DB68-40E2-AA73-2963A476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1864A-5712-4E41-A49E-308433C5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AA2BA-6031-4CE0-9364-076B3288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6D092-FCCB-47AE-B902-EEFF1180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0E0D0-55E2-4F1A-A0C3-6BEB45F8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3C40C-F6E2-453F-82C2-0A794E3D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E8ED5-2E96-40DF-B915-A2642058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3C5C-9894-4275-BC13-DAE0593D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2399F-2435-4A9B-8C68-982A50D7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F8BC2-0A77-48BE-BA28-004ED65B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EDE05-D5FA-4363-9C59-ABF71E81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C848E-6A6E-4576-BD4D-69C57590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E03EE-3827-47EA-A5C7-0CB322C5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D6991-D472-4A49-B389-17659F22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528D7-8A72-41EA-9F7A-5F0DFEF0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B3E88-61F5-47B2-A67B-05A0A6F8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C7640-D5B9-4461-8E02-786EE639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76490-5EA0-427D-99D2-29B666AB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0473-86AD-46C4-AFAF-4A7AF3F2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0A998-F646-4FCB-9D55-5DAA66D6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CDF5A-A536-4099-A37F-6507FDCD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1EEC6-029F-432F-AD02-8BEBCD97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D829-2D9B-4B50-9F8D-428AEC29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9A90-5E42-4572-9F7B-7CB559AE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2177-17F7-4801-BD4C-B3FAB85B0B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E326-74C8-4EE2-AC12-17752CD7AE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0FCD-3F66-49F5-934D-E8C3C3FDB3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1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EB78-615D-4192-AF8F-2A1E0502AE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60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2099-DCAA-40FA-8263-A125EA9374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05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2620-2B55-402A-A107-07A78601DC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Volcano Unit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’s 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s and Min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can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ner C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uter C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n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r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514600" y="380880"/>
            <a:ext cx="396252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3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Jokerman"/>
              </a:rPr>
              <a:t>Earth's Cru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Jokerman"/>
              <a:ea typeface="Joker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5"/>
          <a:stretch/>
        </p:blipFill>
        <p:spPr>
          <a:xfrm>
            <a:off x="4678200" y="1684440"/>
            <a:ext cx="39909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2b2b2"/>
                </a:solidFill>
                <a:latin typeface="Arial"/>
              </a:rPr>
              <a:t>Rocks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2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gneous R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imentary R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morphic R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861080" y="1600200"/>
            <a:ext cx="36241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Volcanoe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60560" y="1599840"/>
            <a:ext cx="402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ma Cha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va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de 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6"/>
          <a:stretch/>
        </p:blipFill>
        <p:spPr>
          <a:xfrm>
            <a:off x="571680" y="1676520"/>
            <a:ext cx="3809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7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106600" y="1827360"/>
            <a:ext cx="3576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1:46:50Z</dcterms:created>
  <dc:creator>Cmoss</dc:creator>
  <dc:description/>
  <dc:language>en-US</dc:language>
  <cp:lastModifiedBy>Cmoss</cp:lastModifiedBy>
  <dcterms:modified xsi:type="dcterms:W3CDTF">2008-03-18T02:58:33Z</dcterms:modified>
  <cp:revision>5</cp:revision>
  <dc:subject/>
  <dc:title>Rocks</dc:title>
</cp:coreProperties>
</file>