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2E8-AE86-4309-B870-0F198AE5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57A-D5E6-4E12-9669-ADAAF84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AB2-8A57-4164-8091-C25D63CB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B35-4E48-42C9-9F2B-CA35F42B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B2A-1AB5-42B4-BB12-15297BBC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49B-0C63-48B1-923A-92272F77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F53-29A0-4345-994B-D8CEB13F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A442-B681-4FB5-AED8-E8DB4F9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228B-450D-413A-9181-DE8E6648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D54-008F-4365-AA8A-E805A9A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5918-E01F-4DD8-818A-E14E5540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B58-4C5E-4C74-8175-59D1EB80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8927-F591-4197-91E1-F527C9D1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0FA4-6AC1-4C3F-B728-78025BB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61AF-8CF4-46D9-A70B-73DA3416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CEE1-E2B3-4F71-9FFF-07710E97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C198-CCFB-475A-8E88-5D4558A8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FCFC-17D1-4EC6-B42C-641CCB44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EA3A-C0E2-41B0-9F54-AE44C243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7C31A-4C78-409E-ADBB-9C285124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2BF2C-94AC-47FC-9E14-8864D89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A7F49-B08E-48C6-899C-99E25F3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003-344F-4986-884B-D716BDE7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D1F88-0158-4AB0-A823-9BFCF260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20236-635E-49BD-84FB-9E171E4C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B06E-0F1A-409A-AB4A-5FECF66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9FBD9-844E-4BD8-A8FC-3F5C7F3F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BCC7-9C40-4B03-B249-22026543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D174-8177-48A1-AC96-97A1C2BE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EE3EB-B6B2-4F2A-8F07-9C84A006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ABD0-1584-4270-9F0A-9A2E4105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147DB-CF06-40C2-B7EC-B1EDA8F8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CA534-591B-4A2B-8AA8-963ECB0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4BC-795E-41FE-B154-3C3C33F1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8DC7-03AD-48D5-8542-398AD2D3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853F4-530D-4C65-84C1-36AB343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9999-E08D-47B4-A5D6-155B59A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0E94C-614B-4E13-9A5E-67C188AA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23C4-3AAE-4951-B232-CF382B1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01D55-E9D6-4348-B09C-A23FE63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464F3-FC43-474D-9D1E-B3DD9F7C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2AEA-F500-4559-91D5-344C6DD0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5132-B244-4B7A-93AE-926D311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D8EFA-C972-45C4-B0D0-7044E41F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0B3-CF98-43C8-92A9-51E4E99E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45E0-C6C5-4A8E-BF72-0DFE47D2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0B79-23CE-4354-9EFC-BAA9B8D5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BAEF-6BEB-49C2-909A-A2D9C3FF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EFE7-1E09-4492-86D4-E40DF037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3A4A-F918-4987-B551-3A9E2B7D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9D73-4009-48C7-A344-554DAAD4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FBD8-312A-4B9D-9506-5AB0C5C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188F-F2F7-4998-8B3E-EE03152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E8FC-0632-4812-A758-FE41FB0F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18D5-B539-444C-A6FF-00241768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E47-3C67-494C-9908-85810D1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16C9-A5D1-4B66-BE20-C552BD29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842DE-D7C8-4467-820D-DD1C097D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5CE94-B42B-40D5-A2A4-6538C423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96FC-2DFD-4B12-ACF4-3E9F9D7F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D0EA9-F7AB-4EB5-B2E1-EEF95FC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E49CB-4D5B-46D4-819D-7B0BCF2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544BF-8DAC-44F2-9683-DE65E4E0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67BAD-4639-4266-819B-1F10C79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AB19-97F2-48C4-A816-BC93EAB2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E3507-A847-4246-81B1-2330E446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1C8-D11C-4B3C-AE6F-4DC8FD2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0B2BD-B5A6-4B1F-B232-8A14D071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AF49-7D04-47A2-A7CE-D844C3A3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E814-2B1B-4F4D-98CA-E38A8CE4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471-6234-47C9-A919-6905AD10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91A-513C-47D3-A347-55D32048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3992-4609-4C27-A241-09A1D79781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3AA7-903C-485D-B5C8-313A9C800E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9BB-11DB-41F9-801E-147FADF200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71B3-A722-4087-ABDB-AE23F4EF2D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E24-9868-4549-9168-0CE85C6B0E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0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A4A0-5883-47B9-9110-B564F0B65A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Volcano Uni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s and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n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14600" y="380880"/>
            <a:ext cx="396252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okerman"/>
              </a:rPr>
              <a:t>Earth's Cr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okerman"/>
              <a:ea typeface="Joker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678200" y="1684440"/>
            <a:ext cx="3990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Rock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056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ma 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571680" y="1676520"/>
            <a:ext cx="3809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7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106600" y="182736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1:46:50Z</dcterms:created>
  <dc:creator>Cmoss</dc:creator>
  <dc:description/>
  <dc:language>en-US</dc:language>
  <cp:lastModifiedBy>Cmoss</cp:lastModifiedBy>
  <dcterms:modified xsi:type="dcterms:W3CDTF">2008-03-18T02:58:33Z</dcterms:modified>
  <cp:revision>5</cp:revision>
  <dc:subject/>
  <dc:title>Rocks</dc:title>
</cp:coreProperties>
</file>