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6A5F-C221-439D-AB84-8B3F44EA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766-3902-4C49-B6E3-CEE69E12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91D-B34B-474E-A7CB-6F667400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248-4C6B-43F8-98CC-1CD75F7C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5D3-42A1-4D5C-BFD7-E395674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2BC-32C6-4FD2-9C30-25047F3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5B5-F08B-4863-BDBE-89579380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75A-5DED-432F-8024-88E9361D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DA5-21B7-4814-B03D-1C7DB061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825-149D-4911-8A67-9E659AF8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33F-2B60-4974-9174-33986591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EA1-3B43-4F63-B34A-1B810DD3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28B3-F0E7-4176-8952-DA1617F48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hyperlink" Target="http://www.google.com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lilly&apos;s%20game.ppt" TargetMode="External"/><Relationship Id="rId2" Type="http://schemas.openxmlformats.org/officeDocument/2006/relationships/hyperlink" Target="file:///JULIAN&apos;&apos;S%20GAME%5B1%5D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4th%20grade%20multiplication.notebook" TargetMode="External"/><Relationship Id="rId2" Type="http://schemas.openxmlformats.org/officeDocument/2006/relationships/hyperlink" Target="file:///Rows%20and%20Columns%20and%20Tic-Tac-Toe.notebook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athplayground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e Collabora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up world, welcome to our WIKI page about the technological equipment within our educational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4191120"/>
          <a:ext cx="9143640" cy="1269720"/>
        </p:xfrm>
        <a:graphic>
          <a:graphicData uri="http://schemas.openxmlformats.org/drawingml/2006/table">
            <a:tbl>
              <a:tblPr/>
              <a:tblGrid>
                <a:gridCol w="2286000"/>
                <a:gridCol w="2285640"/>
                <a:gridCol w="2285640"/>
                <a:gridCol w="2286360"/>
              </a:tblGrid>
              <a:tr h="12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1" action="ppaction://hlinksldjump"/>
                        </a:rPr>
                        <a:t>Student S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2" action="ppaction://hlinksldjump"/>
                        </a:rPr>
                        <a:t>Less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3" action="ppaction://hlinksldjump"/>
                        </a:rPr>
                        <a:t>Pl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4" action="ppaction://hlinksldjump"/>
                        </a:rPr>
                        <a:t>Quick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5" action="ppaction://hlinksldjump"/>
                        </a:rPr>
                        <a:t>Li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6"/>
                        </a:rPr>
                        <a:t>Goog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tudent Samp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/>
                        </a:rPr>
                        <a:t>Complete Jeopardy G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/>
                        </a:rPr>
                        <a:t>Jeopardy Game Boa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ge To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Lesson Pla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1"/>
                        </a:rPr>
                        <a:t>Lattice Ma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git Pla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2"/>
                        </a:rPr>
                        <a:t>Columns and R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Quick Link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99"/>
                          </a:solidFill>
                          <a:uFillTx/>
                          <a:latin typeface="Century Gothic"/>
                          <a:hlinkClick r:id="rId1"/>
                        </a:rPr>
                        <a:t>Math Playgr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>
            <a:hlinkClick r:id="" action="ppaction://hlinkshowjump?jump=firs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7:09:36Z</dcterms:created>
  <dc:creator> </dc:creator>
  <dc:description/>
  <dc:language>en-US</dc:language>
  <cp:lastModifiedBy> </cp:lastModifiedBy>
  <dcterms:modified xsi:type="dcterms:W3CDTF">2008-05-05T18:29:09Z</dcterms:modified>
  <cp:revision>16</cp:revision>
  <dc:subject/>
  <dc:title>The Collaborators </dc:title>
</cp:coreProperties>
</file>