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350-61B2-4AB8-B75B-F7BBAE3E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A0B-A702-47EE-B580-344FEA51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4640-B5C7-4B1E-858B-660B0DD5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507-56CB-4EC9-9526-67174953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9C9-C57B-4F14-AA2D-F227100A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21B-AE2E-498E-B009-D442E61C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8EC-D1B4-41A8-BF37-6F6B06B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E93-0DFD-4979-8E4E-08D2689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F1C-977D-466A-A797-5E6E123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A84-C523-481A-B12D-C1D398D3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DA6-A911-4054-8CE6-3729683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B6F-8ACB-4342-87FF-1D354660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F639-47FA-4489-83C3-B8282638B1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hyperlink" Target="http://www.google.com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illy&apos;s%20game.ppt" TargetMode="External"/><Relationship Id="rId2" Type="http://schemas.openxmlformats.org/officeDocument/2006/relationships/hyperlink" Target="file:///JULIAN&apos;&apos;S%20GAME%5B1%5D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4th%20grade%20multiplication.notebook" TargetMode="External"/><Relationship Id="rId2" Type="http://schemas.openxmlformats.org/officeDocument/2006/relationships/hyperlink" Target="file:///Rows%20and%20Columns%20and%20Tic-Tac-Toe.notebook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hplayground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Collabora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up world, welcome to our WIKI page about the technological equipment within our educational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4191120"/>
          <a:ext cx="9143640" cy="126972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5640"/>
                <a:gridCol w="228636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Student S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Less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Pl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Qui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Li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6"/>
                        </a:rPr>
                        <a:t>Goo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tudent Samp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/>
                        </a:rPr>
                        <a:t>Complete Jeopardy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/>
                        </a:rPr>
                        <a:t>Jeopardy Game B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ge T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sson Pla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/>
                        </a:rPr>
                        <a:t>Lattice M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git 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2"/>
                        </a:rPr>
                        <a:t>Columns and R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Quick Link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/>
                        </a:rPr>
                        <a:t>Math Playg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7:09:36Z</dcterms:created>
  <dc:creator> </dc:creator>
  <dc:description/>
  <dc:language>en-US</dc:language>
  <cp:lastModifiedBy> </cp:lastModifiedBy>
  <dcterms:modified xsi:type="dcterms:W3CDTF">2008-05-05T18:29:09Z</dcterms:modified>
  <cp:revision>16</cp:revision>
  <dc:subject/>
  <dc:title>The Collaborators </dc:title>
</cp:coreProperties>
</file>