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D4B-5C22-4AC3-B397-ACB2EF228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A9F-3BB3-4C66-85FF-4815B3B3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83A-D46D-47F2-B2B2-1874B4A8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33F-6312-4BE8-8D24-36E17BF6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CFCC-ADAB-4EB5-AEEF-52357B5C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6ACA-C951-411E-A02A-F28FE240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3303-45D5-4C0A-883E-52820F76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B6D-EFFE-459E-90B2-78336813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4238-E048-477D-BF17-9F556CF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A97-F682-473B-AF24-0B0E43BE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CB45-24A3-4D40-A135-9729259D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99D-9B77-49CA-AE1D-34002645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16A-55F5-4CC6-98DC-349E402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BF53-E9D4-492C-A76E-D751C54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93C1-3B31-4A0B-B4BC-1C47808B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ADDE-DDFD-4672-B564-E41551F6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09F3-6222-4B54-A08B-51B2B149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EFA-926B-44A1-99AA-32DD13CD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248-6151-49BF-BA57-B85E1EF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425-584A-4F87-9EED-AE5FA432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DAB-2C82-4050-AF1B-EAF5748F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E6D-BDBA-4E3C-8743-B9E6B84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C51-C11A-46DF-9CA2-08BFD42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0FC-5C8A-45C4-8096-B69452A3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9CE-AD14-4C1F-A844-D72140618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5742-5EAB-498D-8288-255C7BD26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Plural Nou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 make some nouns plural, simply add –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 make nouns that end in letters that make the hissing sound plural, we must add –es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–f or –fe, change the –f to –v and add –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onant + y, change the –y to –i and add –es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–o, sometimes we add –es to make it plural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4038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278928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n you remember how to make these nouns plural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las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nc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you do some more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l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c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ketb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21:43:12Z</dcterms:created>
  <dc:creator>jgarner</dc:creator>
  <dc:description/>
  <dc:language>en-US</dc:language>
  <cp:lastModifiedBy>aleonard</cp:lastModifiedBy>
  <dcterms:modified xsi:type="dcterms:W3CDTF">2008-02-06T23:52:02Z</dcterms:modified>
  <cp:revision>7</cp:revision>
  <dc:subject/>
  <dc:title>Plural Nouns</dc:title>
</cp:coreProperties>
</file>