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857-979F-4513-8B3C-A8AD198D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512-3A10-4FCF-AFB5-1E99A9D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388-A38E-41D5-BA27-D0884BA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2C7-A1CC-4C54-9669-8CE84622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48E-3EAF-422B-89CE-2DF1AC45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9D9D-3E0D-47F9-BEF3-B9748C08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80DF-3CE9-4690-A40F-89E7043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D28-8E32-4FCC-AD6A-D3D13F62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308E-7491-48D3-AD00-2787491C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42A1-51D4-4BC5-9830-EE7045B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ECF1-EB29-49C3-B710-797A02D1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4A1-931E-4F5E-9614-7B4E888D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B28B-C4BF-426C-A981-C7D7060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C822-40BB-49FE-8088-C3B83190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84F8-5EDE-4464-AFCC-A792910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44AF-A6A9-49C3-BA7E-BEC29DB2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705C-8DB1-4683-94C9-E04AAD00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DF1-FDC6-414A-A79C-A395462B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1FE-3D75-476B-8C88-C7D3D57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368-E314-4056-9F6F-C4548CFC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EAD-B10D-4136-B9BE-4946A02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1C4-BA22-4B60-B117-C5CB0F97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924-240D-4EFD-9B33-F64E7EC7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C4C-B204-4FB2-B4F5-8EB7CB22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206D-BAA8-481D-B3FE-E79AD9403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0604-F5FF-4A2F-B30B-D9006CD85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Plural Nou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some nouns plural, simply add –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nouns that end in letters that make the hissing sound plural, we must add –es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f or –fe, change the –f to –v and add –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onant + y, change the –y to –i and add –es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o, sometimes we add –es to make it plural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4038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278928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n you remember how to make these nouns plural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la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n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you do some more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l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ketb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21:43:12Z</dcterms:created>
  <dc:creator>jgarner</dc:creator>
  <dc:description/>
  <dc:language>en-US</dc:language>
  <cp:lastModifiedBy>aleonard</cp:lastModifiedBy>
  <dcterms:modified xsi:type="dcterms:W3CDTF">2008-02-06T23:52:02Z</dcterms:modified>
  <cp:revision>7</cp:revision>
  <dc:subject/>
  <dc:title>Plural Nouns</dc:title>
</cp:coreProperties>
</file>