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8DC-9454-43CA-BD16-01CBCBA2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923-A813-4535-B2CD-806A6DF4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94E-5B45-4C96-B98E-17D85806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4DF-F9E5-421D-9220-E42E2B54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9A6B-75C9-4114-9236-E639C267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B552-FC9E-4199-9520-BF122ECD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A92B-CD5B-473F-9B0A-D01AD4F5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1E46-ABA9-4669-B93C-035E8BAD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2696-2B32-45F2-9DD9-AA3668D2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3A2D-F843-4171-A106-6DCC097A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22DF-D49F-4709-B7C3-8DFB2A0E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7E30-8EF6-45AB-83B4-08320F82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4ECF-C840-434B-889B-C6BF7E5D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A7BE-1DF0-4AC1-B4ED-6080E386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C622-BBF2-4FC3-B45E-33456439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C530-76EF-4EF4-858D-450BC17A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F3E3-1FEB-4E7E-A29C-D55D6E5E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022-B774-4D88-B016-3651747E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C8A-E6D3-4DC2-B30D-7E16AD08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B145-7E02-44BF-867F-9DEFA8A4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575-6687-48C1-A40A-21E879D5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1DF-0D76-4CAE-8DB3-377377FE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8CD-E123-410E-A7A6-2F1D0745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411-33C8-49CB-9E1C-B4514AB7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7103-1E05-4842-BB32-51D778CDC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8C39-728E-4527-ABCA-9D3123A98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ecff"/>
                </a:solidFill>
                <a:latin typeface="Arial"/>
              </a:rPr>
              <a:t>Plural Noun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o make some nouns plural, simply add –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n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d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o make nouns that end in letters that make the hissing sound plural, we must add –es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n a noun ends in –f or –fe, change the –f to –v and add –e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n a noun ends in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sonant + y, change the –y to –i and add –es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8320" y="24379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en a noun ends in –o, sometimes we add –es to make it plural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2666880"/>
            <a:ext cx="40388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278928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n you remember how to make these nouns plural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i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las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pp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es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unc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x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 you do some more??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spap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lo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em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c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ketbal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21:43:12Z</dcterms:created>
  <dc:creator>jgarner</dc:creator>
  <dc:description/>
  <dc:language>en-US</dc:language>
  <cp:lastModifiedBy>aleonard</cp:lastModifiedBy>
  <dcterms:modified xsi:type="dcterms:W3CDTF">2008-02-06T23:52:02Z</dcterms:modified>
  <cp:revision>7</cp:revision>
  <dc:subject/>
  <dc:title>Plural Nouns</dc:title>
</cp:coreProperties>
</file>