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D189-8FEB-480B-A2C2-D436127A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27B-BCC9-4B65-8C90-72697BE7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AAA-DBE9-463C-82A6-8B500A15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33A-BB24-406A-AFC8-773335CC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C939-231B-4132-A6E4-18C7B381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8002-C591-44DE-A2F0-3FD186E6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0570-3FEA-4CB6-9007-B37F914F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AF71-2A4F-45ED-97B0-C577E4F7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0AD7-D427-463E-9F5E-5894BD7A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EEB3-60BE-4876-A628-4122F8AA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37FC-4B44-4B3C-9CA7-2B46E998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E46-0FF9-430E-AFED-DB800F38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6E35-5F91-440F-9A7D-A7276A4A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3085-62DC-4880-9F69-314AC222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4F2D-4A32-459E-9BDB-799F6CAE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FF36-C60D-4C87-8A48-D8F911FB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A540-1369-45DC-9989-3AA20E9A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EFC6-CEF5-425F-9203-6E35BD96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EA5-0EDF-4177-A3AF-E10F018B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C0A-0926-49C5-89D8-EED70C8A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FA0-43B2-492F-BC71-1A51BC15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66C5-EF71-4BF7-8887-7444E142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A32-9D76-45BA-A08F-8F993C3C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A6D-3C4B-4A62-8DE6-AE18B4FE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1825-B912-40CD-8338-5A79945FB7D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BDE4-0DAD-4995-AE26-5068A4D8CA9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y student created everything on this presentation, except for this slide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have to delete this slide in order for this incomplete game to w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0"/>
            <a:ext cx="1067040" cy="1042920"/>
          </a:xfrm>
          <a:custGeom>
            <a:avLst/>
            <a:gdLst>
              <a:gd name="textAreaLeft" fmla="*/ 67320 w 1067040"/>
              <a:gd name="textAreaRight" fmla="*/ 999720 w 10670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099" h="21600">
                <a:moveTo>
                  <a:pt x="0" y="0"/>
                </a:moveTo>
                <a:lnTo>
                  <a:pt x="22099" y="0"/>
                </a:lnTo>
                <a:lnTo>
                  <a:pt x="22099" y="21600"/>
                </a:lnTo>
                <a:lnTo>
                  <a:pt x="0" y="21600"/>
                </a:lnTo>
                <a:close/>
              </a:path>
              <a:path fill="lightenLess" w="22099" h="21600">
                <a:moveTo>
                  <a:pt x="0" y="0"/>
                </a:moveTo>
                <a:lnTo>
                  <a:pt x="22099" y="0"/>
                </a:lnTo>
                <a:lnTo>
                  <a:pt x="20699" y="1400"/>
                </a:lnTo>
                <a:lnTo>
                  <a:pt x="1400" y="1400"/>
                </a:lnTo>
                <a:close/>
              </a:path>
              <a:path fill="darken" w="22099" h="21600">
                <a:moveTo>
                  <a:pt x="22099" y="0"/>
                </a:moveTo>
                <a:lnTo>
                  <a:pt x="22099" y="21600"/>
                </a:lnTo>
                <a:lnTo>
                  <a:pt x="20699" y="20200"/>
                </a:lnTo>
                <a:lnTo>
                  <a:pt x="20699" y="1400"/>
                </a:lnTo>
                <a:close/>
              </a:path>
              <a:path fill="darkenLess" w="22099" h="21600">
                <a:moveTo>
                  <a:pt x="22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9" y="20200"/>
                </a:lnTo>
                <a:close/>
              </a:path>
              <a:path fill="lighten" w="22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0"/>
            <a:ext cx="1066680" cy="1042920"/>
          </a:xfrm>
          <a:custGeom>
            <a:avLst/>
            <a:gdLst>
              <a:gd name="textAreaLeft" fmla="*/ 67320 w 1066680"/>
              <a:gd name="textAreaRight" fmla="*/ 999360 w 10666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092" h="21600">
                <a:moveTo>
                  <a:pt x="0" y="0"/>
                </a:moveTo>
                <a:lnTo>
                  <a:pt x="22092" y="0"/>
                </a:lnTo>
                <a:lnTo>
                  <a:pt x="22092" y="21600"/>
                </a:lnTo>
                <a:lnTo>
                  <a:pt x="0" y="21600"/>
                </a:lnTo>
                <a:close/>
              </a:path>
              <a:path fill="lightenLess" w="22092" h="21600">
                <a:moveTo>
                  <a:pt x="0" y="0"/>
                </a:moveTo>
                <a:lnTo>
                  <a:pt x="22092" y="0"/>
                </a:lnTo>
                <a:lnTo>
                  <a:pt x="20692" y="1400"/>
                </a:lnTo>
                <a:lnTo>
                  <a:pt x="1400" y="1400"/>
                </a:lnTo>
                <a:close/>
              </a:path>
              <a:path fill="darken" w="22092" h="21600">
                <a:moveTo>
                  <a:pt x="22092" y="0"/>
                </a:moveTo>
                <a:lnTo>
                  <a:pt x="22092" y="21600"/>
                </a:lnTo>
                <a:lnTo>
                  <a:pt x="20692" y="20200"/>
                </a:lnTo>
                <a:lnTo>
                  <a:pt x="20692" y="1400"/>
                </a:lnTo>
                <a:close/>
              </a:path>
              <a:path fill="darkenLess" w="22092" h="21600">
                <a:moveTo>
                  <a:pt x="22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2" y="20200"/>
                </a:lnTo>
                <a:close/>
              </a:path>
              <a:path fill="lighten" w="22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0"/>
            <a:ext cx="1066680" cy="1042920"/>
          </a:xfrm>
          <a:custGeom>
            <a:avLst/>
            <a:gdLst>
              <a:gd name="textAreaLeft" fmla="*/ 67320 w 1066680"/>
              <a:gd name="textAreaRight" fmla="*/ 999360 w 10666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092" h="21600">
                <a:moveTo>
                  <a:pt x="0" y="0"/>
                </a:moveTo>
                <a:lnTo>
                  <a:pt x="22092" y="0"/>
                </a:lnTo>
                <a:lnTo>
                  <a:pt x="22092" y="21600"/>
                </a:lnTo>
                <a:lnTo>
                  <a:pt x="0" y="21600"/>
                </a:lnTo>
                <a:close/>
              </a:path>
              <a:path fill="lightenLess" w="22092" h="21600">
                <a:moveTo>
                  <a:pt x="0" y="0"/>
                </a:moveTo>
                <a:lnTo>
                  <a:pt x="22092" y="0"/>
                </a:lnTo>
                <a:lnTo>
                  <a:pt x="20692" y="1400"/>
                </a:lnTo>
                <a:lnTo>
                  <a:pt x="1400" y="1400"/>
                </a:lnTo>
                <a:close/>
              </a:path>
              <a:path fill="darken" w="22092" h="21600">
                <a:moveTo>
                  <a:pt x="22092" y="0"/>
                </a:moveTo>
                <a:lnTo>
                  <a:pt x="22092" y="21600"/>
                </a:lnTo>
                <a:lnTo>
                  <a:pt x="20692" y="20200"/>
                </a:lnTo>
                <a:lnTo>
                  <a:pt x="20692" y="1400"/>
                </a:lnTo>
                <a:close/>
              </a:path>
              <a:path fill="darkenLess" w="22092" h="21600">
                <a:moveTo>
                  <a:pt x="22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2" y="20200"/>
                </a:lnTo>
                <a:close/>
              </a:path>
              <a:path fill="lighten" w="22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0"/>
            <a:ext cx="1066680" cy="1042920"/>
          </a:xfrm>
          <a:custGeom>
            <a:avLst/>
            <a:gdLst>
              <a:gd name="textAreaLeft" fmla="*/ 67320 w 1066680"/>
              <a:gd name="textAreaRight" fmla="*/ 999360 w 10666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092" h="21600">
                <a:moveTo>
                  <a:pt x="0" y="0"/>
                </a:moveTo>
                <a:lnTo>
                  <a:pt x="22092" y="0"/>
                </a:lnTo>
                <a:lnTo>
                  <a:pt x="22092" y="21600"/>
                </a:lnTo>
                <a:lnTo>
                  <a:pt x="0" y="21600"/>
                </a:lnTo>
                <a:close/>
              </a:path>
              <a:path fill="lightenLess" w="22092" h="21600">
                <a:moveTo>
                  <a:pt x="0" y="0"/>
                </a:moveTo>
                <a:lnTo>
                  <a:pt x="22092" y="0"/>
                </a:lnTo>
                <a:lnTo>
                  <a:pt x="20692" y="1400"/>
                </a:lnTo>
                <a:lnTo>
                  <a:pt x="1400" y="1400"/>
                </a:lnTo>
                <a:close/>
              </a:path>
              <a:path fill="darken" w="22092" h="21600">
                <a:moveTo>
                  <a:pt x="22092" y="0"/>
                </a:moveTo>
                <a:lnTo>
                  <a:pt x="22092" y="21600"/>
                </a:lnTo>
                <a:lnTo>
                  <a:pt x="20692" y="20200"/>
                </a:lnTo>
                <a:lnTo>
                  <a:pt x="20692" y="1400"/>
                </a:lnTo>
                <a:close/>
              </a:path>
              <a:path fill="darkenLess" w="22092" h="21600">
                <a:moveTo>
                  <a:pt x="22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2" y="20200"/>
                </a:lnTo>
                <a:close/>
              </a:path>
              <a:path fill="lighten" w="22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0"/>
            <a:ext cx="1067040" cy="1042920"/>
          </a:xfrm>
          <a:custGeom>
            <a:avLst/>
            <a:gdLst>
              <a:gd name="textAreaLeft" fmla="*/ 67320 w 1067040"/>
              <a:gd name="textAreaRight" fmla="*/ 999720 w 10670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2099" h="21600">
                <a:moveTo>
                  <a:pt x="0" y="0"/>
                </a:moveTo>
                <a:lnTo>
                  <a:pt x="22099" y="0"/>
                </a:lnTo>
                <a:lnTo>
                  <a:pt x="22099" y="21600"/>
                </a:lnTo>
                <a:lnTo>
                  <a:pt x="0" y="21600"/>
                </a:lnTo>
                <a:close/>
              </a:path>
              <a:path fill="lightenLess" w="22099" h="21600">
                <a:moveTo>
                  <a:pt x="0" y="0"/>
                </a:moveTo>
                <a:lnTo>
                  <a:pt x="22099" y="0"/>
                </a:lnTo>
                <a:lnTo>
                  <a:pt x="20699" y="1400"/>
                </a:lnTo>
                <a:lnTo>
                  <a:pt x="1400" y="1400"/>
                </a:lnTo>
                <a:close/>
              </a:path>
              <a:path fill="darken" w="22099" h="21600">
                <a:moveTo>
                  <a:pt x="22099" y="0"/>
                </a:moveTo>
                <a:lnTo>
                  <a:pt x="22099" y="21600"/>
                </a:lnTo>
                <a:lnTo>
                  <a:pt x="20699" y="20200"/>
                </a:lnTo>
                <a:lnTo>
                  <a:pt x="20699" y="1400"/>
                </a:lnTo>
                <a:close/>
              </a:path>
              <a:path fill="darkenLess" w="22099" h="21600">
                <a:moveTo>
                  <a:pt x="22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99" y="20200"/>
                </a:lnTo>
                <a:close/>
              </a:path>
              <a:path fill="lighten" w="22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entury Gothic"/>
                <a:hlinkClick r:id="rId1" action="ppaction://hlinksldjump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371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1371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819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Century Gothic"/>
                <a:hlinkClick r:id="rId2" action="ppaction://hlinksldjump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2819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2819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2819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819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96080" y="2819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26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4267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267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00  1Q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4267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00  1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40384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0 1Q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39625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0 1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39625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54:50Z</dcterms:created>
  <dc:creator>bbs2</dc:creator>
  <dc:description/>
  <dc:language>en-US</dc:language>
  <cp:lastModifiedBy>WHS</cp:lastModifiedBy>
  <dcterms:modified xsi:type="dcterms:W3CDTF">2007-05-16T22:41:56Z</dcterms:modified>
  <cp:revision>4</cp:revision>
  <dc:subject/>
  <dc:title>Slide 1</dc:title>
</cp:coreProperties>
</file>