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944-4CD5-496E-944D-7B9402CC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02F-F69B-4B35-A921-2A954F9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E68-5A79-4311-80C7-51C4D106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EEF-C450-42A7-9719-1D803B93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202D-76D7-4AA8-A9A9-D2F6DF65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2770-F100-430C-AEBB-44944340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A0B-C7C7-4B7F-BFAB-3EAF2C92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7886-1E32-40FD-876C-08A3A3C7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8189-4ECE-4399-B949-1497ADF7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54DD-2458-4748-8BD3-856E2D03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BC1D-A812-4A75-BDBB-5F82BF1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161-7C5E-4DD0-BC0F-6B5CA0AE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0597-39B7-4103-AAF3-C8585C4A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7A3B-19A6-409B-9B28-F94040D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94DF-ED40-4EF3-A370-7DFD970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1CAD-4E93-4454-9933-B9FD8BF2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DB28-0860-4195-8560-360F3ACC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519-C349-4183-8F4D-054B9A99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27D-C5D9-4182-BB83-F988D4B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2FF-5AB2-4278-A5D5-CEEAA348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258-4437-41F1-B883-CD22DC4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0F1-0189-4158-BC01-8150AD9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096-9A19-44AF-A8B7-E133FB3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CBD-A3AA-4F18-A33A-1909966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9FDE-8FF9-4E12-B66C-F6BAD89ACF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DE2B-2030-45C5-931A-7A0A3AC0BB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y student created everything on this presentation, except for this slide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have to delete this slide in order for this incomplete game to 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0"/>
            <a:ext cx="1067040" cy="1042920"/>
          </a:xfrm>
          <a:custGeom>
            <a:avLst/>
            <a:gdLst>
              <a:gd name="textAreaLeft" fmla="*/ 67320 w 1067040"/>
              <a:gd name="textAreaRight" fmla="*/ 999720 w 10670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9" h="21600">
                <a:moveTo>
                  <a:pt x="0" y="0"/>
                </a:moveTo>
                <a:lnTo>
                  <a:pt x="22099" y="0"/>
                </a:lnTo>
                <a:lnTo>
                  <a:pt x="22099" y="21600"/>
                </a:lnTo>
                <a:lnTo>
                  <a:pt x="0" y="21600"/>
                </a:lnTo>
                <a:close/>
              </a:path>
              <a:path fill="lightenLess" w="22099" h="21600">
                <a:moveTo>
                  <a:pt x="0" y="0"/>
                </a:moveTo>
                <a:lnTo>
                  <a:pt x="22099" y="0"/>
                </a:lnTo>
                <a:lnTo>
                  <a:pt x="20699" y="1400"/>
                </a:lnTo>
                <a:lnTo>
                  <a:pt x="1400" y="1400"/>
                </a:lnTo>
                <a:close/>
              </a:path>
              <a:path fill="darken" w="22099" h="21600">
                <a:moveTo>
                  <a:pt x="22099" y="0"/>
                </a:moveTo>
                <a:lnTo>
                  <a:pt x="22099" y="21600"/>
                </a:lnTo>
                <a:lnTo>
                  <a:pt x="20699" y="20200"/>
                </a:lnTo>
                <a:lnTo>
                  <a:pt x="20699" y="1400"/>
                </a:lnTo>
                <a:close/>
              </a:path>
              <a:path fill="darkenLess" w="22099" h="21600">
                <a:moveTo>
                  <a:pt x="2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9" y="20200"/>
                </a:lnTo>
                <a:close/>
              </a:path>
              <a:path fill="lighten" w="2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0"/>
            <a:ext cx="1066680" cy="1042920"/>
          </a:xfrm>
          <a:custGeom>
            <a:avLst/>
            <a:gdLst>
              <a:gd name="textAreaLeft" fmla="*/ 67320 w 1066680"/>
              <a:gd name="textAreaRight" fmla="*/ 999360 w 10666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2" h="21600">
                <a:moveTo>
                  <a:pt x="0" y="0"/>
                </a:moveTo>
                <a:lnTo>
                  <a:pt x="22092" y="0"/>
                </a:lnTo>
                <a:lnTo>
                  <a:pt x="22092" y="21600"/>
                </a:lnTo>
                <a:lnTo>
                  <a:pt x="0" y="21600"/>
                </a:lnTo>
                <a:close/>
              </a:path>
              <a:path fill="lightenLess" w="22092" h="21600">
                <a:moveTo>
                  <a:pt x="0" y="0"/>
                </a:moveTo>
                <a:lnTo>
                  <a:pt x="22092" y="0"/>
                </a:lnTo>
                <a:lnTo>
                  <a:pt x="20692" y="1400"/>
                </a:lnTo>
                <a:lnTo>
                  <a:pt x="1400" y="1400"/>
                </a:lnTo>
                <a:close/>
              </a:path>
              <a:path fill="darken" w="22092" h="21600">
                <a:moveTo>
                  <a:pt x="22092" y="0"/>
                </a:moveTo>
                <a:lnTo>
                  <a:pt x="22092" y="21600"/>
                </a:lnTo>
                <a:lnTo>
                  <a:pt x="20692" y="20200"/>
                </a:lnTo>
                <a:lnTo>
                  <a:pt x="20692" y="1400"/>
                </a:lnTo>
                <a:close/>
              </a:path>
              <a:path fill="darkenLess" w="22092" h="21600">
                <a:moveTo>
                  <a:pt x="2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2" y="20200"/>
                </a:lnTo>
                <a:close/>
              </a:path>
              <a:path fill="lighten" w="2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0"/>
            <a:ext cx="1066680" cy="1042920"/>
          </a:xfrm>
          <a:custGeom>
            <a:avLst/>
            <a:gdLst>
              <a:gd name="textAreaLeft" fmla="*/ 67320 w 1066680"/>
              <a:gd name="textAreaRight" fmla="*/ 999360 w 10666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2" h="21600">
                <a:moveTo>
                  <a:pt x="0" y="0"/>
                </a:moveTo>
                <a:lnTo>
                  <a:pt x="22092" y="0"/>
                </a:lnTo>
                <a:lnTo>
                  <a:pt x="22092" y="21600"/>
                </a:lnTo>
                <a:lnTo>
                  <a:pt x="0" y="21600"/>
                </a:lnTo>
                <a:close/>
              </a:path>
              <a:path fill="lightenLess" w="22092" h="21600">
                <a:moveTo>
                  <a:pt x="0" y="0"/>
                </a:moveTo>
                <a:lnTo>
                  <a:pt x="22092" y="0"/>
                </a:lnTo>
                <a:lnTo>
                  <a:pt x="20692" y="1400"/>
                </a:lnTo>
                <a:lnTo>
                  <a:pt x="1400" y="1400"/>
                </a:lnTo>
                <a:close/>
              </a:path>
              <a:path fill="darken" w="22092" h="21600">
                <a:moveTo>
                  <a:pt x="22092" y="0"/>
                </a:moveTo>
                <a:lnTo>
                  <a:pt x="22092" y="21600"/>
                </a:lnTo>
                <a:lnTo>
                  <a:pt x="20692" y="20200"/>
                </a:lnTo>
                <a:lnTo>
                  <a:pt x="20692" y="1400"/>
                </a:lnTo>
                <a:close/>
              </a:path>
              <a:path fill="darkenLess" w="22092" h="21600">
                <a:moveTo>
                  <a:pt x="2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2" y="20200"/>
                </a:lnTo>
                <a:close/>
              </a:path>
              <a:path fill="lighten" w="2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0"/>
            <a:ext cx="1066680" cy="1042920"/>
          </a:xfrm>
          <a:custGeom>
            <a:avLst/>
            <a:gdLst>
              <a:gd name="textAreaLeft" fmla="*/ 67320 w 1066680"/>
              <a:gd name="textAreaRight" fmla="*/ 999360 w 10666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2" h="21600">
                <a:moveTo>
                  <a:pt x="0" y="0"/>
                </a:moveTo>
                <a:lnTo>
                  <a:pt x="22092" y="0"/>
                </a:lnTo>
                <a:lnTo>
                  <a:pt x="22092" y="21600"/>
                </a:lnTo>
                <a:lnTo>
                  <a:pt x="0" y="21600"/>
                </a:lnTo>
                <a:close/>
              </a:path>
              <a:path fill="lightenLess" w="22092" h="21600">
                <a:moveTo>
                  <a:pt x="0" y="0"/>
                </a:moveTo>
                <a:lnTo>
                  <a:pt x="22092" y="0"/>
                </a:lnTo>
                <a:lnTo>
                  <a:pt x="20692" y="1400"/>
                </a:lnTo>
                <a:lnTo>
                  <a:pt x="1400" y="1400"/>
                </a:lnTo>
                <a:close/>
              </a:path>
              <a:path fill="darken" w="22092" h="21600">
                <a:moveTo>
                  <a:pt x="22092" y="0"/>
                </a:moveTo>
                <a:lnTo>
                  <a:pt x="22092" y="21600"/>
                </a:lnTo>
                <a:lnTo>
                  <a:pt x="20692" y="20200"/>
                </a:lnTo>
                <a:lnTo>
                  <a:pt x="20692" y="1400"/>
                </a:lnTo>
                <a:close/>
              </a:path>
              <a:path fill="darkenLess" w="22092" h="21600">
                <a:moveTo>
                  <a:pt x="2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2" y="20200"/>
                </a:lnTo>
                <a:close/>
              </a:path>
              <a:path fill="lighten" w="2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0"/>
            <a:ext cx="1067040" cy="1042920"/>
          </a:xfrm>
          <a:custGeom>
            <a:avLst/>
            <a:gdLst>
              <a:gd name="textAreaLeft" fmla="*/ 67320 w 1067040"/>
              <a:gd name="textAreaRight" fmla="*/ 999720 w 10670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9" h="21600">
                <a:moveTo>
                  <a:pt x="0" y="0"/>
                </a:moveTo>
                <a:lnTo>
                  <a:pt x="22099" y="0"/>
                </a:lnTo>
                <a:lnTo>
                  <a:pt x="22099" y="21600"/>
                </a:lnTo>
                <a:lnTo>
                  <a:pt x="0" y="21600"/>
                </a:lnTo>
                <a:close/>
              </a:path>
              <a:path fill="lightenLess" w="22099" h="21600">
                <a:moveTo>
                  <a:pt x="0" y="0"/>
                </a:moveTo>
                <a:lnTo>
                  <a:pt x="22099" y="0"/>
                </a:lnTo>
                <a:lnTo>
                  <a:pt x="20699" y="1400"/>
                </a:lnTo>
                <a:lnTo>
                  <a:pt x="1400" y="1400"/>
                </a:lnTo>
                <a:close/>
              </a:path>
              <a:path fill="darken" w="22099" h="21600">
                <a:moveTo>
                  <a:pt x="22099" y="0"/>
                </a:moveTo>
                <a:lnTo>
                  <a:pt x="22099" y="21600"/>
                </a:lnTo>
                <a:lnTo>
                  <a:pt x="20699" y="20200"/>
                </a:lnTo>
                <a:lnTo>
                  <a:pt x="20699" y="1400"/>
                </a:lnTo>
                <a:close/>
              </a:path>
              <a:path fill="darkenLess" w="22099" h="21600">
                <a:moveTo>
                  <a:pt x="2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9" y="20200"/>
                </a:lnTo>
                <a:close/>
              </a:path>
              <a:path fill="lighten" w="2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entury Gothic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371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entury Gothic"/>
                <a:hlinkClick r:id="rId2" action="ppaction://hlinksldjump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819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2819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267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267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0  1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267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0  1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40384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 1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39625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 1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39625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54:50Z</dcterms:created>
  <dc:creator>bbs2</dc:creator>
  <dc:description/>
  <dc:language>en-US</dc:language>
  <cp:lastModifiedBy>WHS</cp:lastModifiedBy>
  <dcterms:modified xsi:type="dcterms:W3CDTF">2007-05-16T22:41:56Z</dcterms:modified>
  <cp:revision>4</cp:revision>
  <dc:subject/>
  <dc:title>Slide 1</dc:title>
</cp:coreProperties>
</file>