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9A1-3899-4ADF-87DE-F9DEFA1B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83C-17DC-40F8-80F6-847160FD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646-042A-4F82-A013-80F0D251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D35-3FF9-4A6B-963F-C0987B00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9F9DD-249A-48D2-8DE5-3A8A6F14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E01EF-20ED-4D59-AAFB-4197D14D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E5344-63E3-4EF0-9A13-FF48976C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8CC3A-DB9D-4712-A063-7C663633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E0018-61C9-46B4-A0D3-A510E66B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1B373-6FCA-4D7B-A6B2-C9067174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C7D5D-49DF-47E1-BF94-C43CCEFA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21C-7C64-4FE2-A4F7-F744BFFC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75AF9-6D37-4819-92D7-D3BEE97F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121A3-F441-419F-9C0C-25FDE346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2BDFF-7B5D-42AD-AFC6-C4490EAF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4F10E-E2B8-468C-97A2-49ED60D8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E45DE-AD13-4424-9B45-A8A3CBA2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74F-5308-4D51-B2BA-81434077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4A5-E148-49A2-A3E1-77769166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E42-19C5-4DAA-84BB-8D2DEA94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E30-280A-4292-9791-104364E2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8CA-4EBC-4364-AD69-D61BCE71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EDF-EE76-4BEA-A21F-D56156B3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921-6BFC-4BAB-A638-51042C58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2EB6-6F63-47EC-9293-EB3DDEBB65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5EFA-4907-47D1-9A2D-1D8CDC4EE3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In Affiliation with AllPosters.com"/>
          <p:cNvPicPr/>
          <p:nvPr/>
        </p:nvPicPr>
        <p:blipFill>
          <a:blip r:embed="rId1"/>
          <a:stretch/>
        </p:blipFill>
        <p:spPr>
          <a:xfrm>
            <a:off x="1600200" y="990720"/>
            <a:ext cx="6095880" cy="4043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63416"/>
                </a:solidFill>
                <a:latin typeface="Arial"/>
              </a:rPr>
              <a:t>Arizona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The Grand Canyon St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Our Great State of Arizon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Arial"/>
              </a:rPr>
              <a:t>When did Arizona become a sta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ebruary 14, 19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150920" cy="1574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535800" y="4073400"/>
            <a:ext cx="1752480" cy="1920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1631880" cy="18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8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8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8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n Facts about Arizona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ital City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cknam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nd Canyon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tto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tat Deus (God enrich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hood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bruary 14, 19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Arizona State Flag"/>
          <p:cNvPicPr/>
          <p:nvPr/>
        </p:nvPicPr>
        <p:blipFill>
          <a:blip r:embed="rId1"/>
          <a:stretch/>
        </p:blipFill>
        <p:spPr>
          <a:xfrm>
            <a:off x="914400" y="20574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90720" y="43434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arizona-leisure.com/arizona-facts.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rizon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" descr="Image of Arizona with a star pinpointing the location of the capital."/>
          <p:cNvPicPr/>
          <p:nvPr/>
        </p:nvPicPr>
        <p:blipFill>
          <a:blip r:embed="rId1"/>
          <a:stretch/>
        </p:blipFill>
        <p:spPr>
          <a:xfrm>
            <a:off x="2971800" y="1523880"/>
            <a:ext cx="3147840" cy="358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05320" y="5257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worldatlas.com/webimage/countrys/namerica/usstates/az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0:25:34Z</dcterms:created>
  <dc:creator>cmoss</dc:creator>
  <dc:description/>
  <dc:language>en-US</dc:language>
  <cp:lastModifiedBy>kgonzales</cp:lastModifiedBy>
  <dcterms:modified xsi:type="dcterms:W3CDTF">2008-03-14T21:26:59Z</dcterms:modified>
  <cp:revision>14</cp:revision>
  <dc:subject/>
  <dc:title>Arizona </dc:title>
</cp:coreProperties>
</file>