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B48-39B4-4D63-8CE0-45FDC99F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611-0934-4152-9E57-6E9F2DC4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6344-91C4-43A6-939D-0C8AEB8D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A32-2842-416F-9C49-827FA73D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1B24-CDE0-420F-AC7B-9818957E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634C7-02AC-4CF1-93FD-74FC89A3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9D91A-01CB-46A8-A794-2EB29A5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D1A6B-A683-46D4-9D62-40CF1B31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8536A-BF22-4D2A-8F63-3B603C82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21DDD-1F0A-43D6-A07F-5AF31923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0908-23C2-444B-859D-8E5B99FD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79B-DBF8-43B2-8722-3AB32CC2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94E9E-5115-4D52-9C4B-E420BD6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D5180-6517-4D00-8C93-0D039CC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58B80-A4A5-45D2-955F-5F3DD6DA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62665-BB0D-4F10-A310-53E49CB1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CEFED-EA94-4732-91E9-ECB101D7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641-73C8-4A8F-8A34-5354A328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A06D-BDAA-4DB3-8804-4D3517A4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510-61BA-46A8-8CD9-CA156E43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695-7829-4340-B994-2D7AAE5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617-74E9-4597-B428-40CCB20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763-B19A-4122-B09D-B6D4898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2F1-B770-47FD-A2DF-CCEB5025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6C46-C8E0-4F21-BDEB-6D77D68F3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679-D44A-4529-B4F9-48031C88EC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In Affiliation with AllPosters.com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4043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63416"/>
                </a:solidFill>
                <a:latin typeface="Arial"/>
              </a:rPr>
              <a:t>Arizona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The Grand Canyon St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Our Great State of Arizo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When did Arizona become a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ebruary 14, 19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150920" cy="157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535800" y="4073400"/>
            <a:ext cx="175248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1631880" cy="18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8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8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8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 Facts about Arizona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 City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knam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d Canyon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to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tat Deus (God enrich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hood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ruary 14, 19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Arizona State Flag"/>
          <p:cNvPicPr/>
          <p:nvPr/>
        </p:nvPicPr>
        <p:blipFill>
          <a:blip r:embed="rId1"/>
          <a:stretch/>
        </p:blipFill>
        <p:spPr>
          <a:xfrm>
            <a:off x="914400" y="20574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90720" y="43434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arizona-leisure.com/arizona-facts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rizon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Image of Arizona with a star pinpointing the location of the capital."/>
          <p:cNvPicPr/>
          <p:nvPr/>
        </p:nvPicPr>
        <p:blipFill>
          <a:blip r:embed="rId1"/>
          <a:stretch/>
        </p:blipFill>
        <p:spPr>
          <a:xfrm>
            <a:off x="2971800" y="1523880"/>
            <a:ext cx="3147840" cy="358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5320" y="5257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worldatlas.com/webimage/countrys/namerica/usstates/az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0:25:34Z</dcterms:created>
  <dc:creator>cmoss</dc:creator>
  <dc:description/>
  <dc:language>en-US</dc:language>
  <cp:lastModifiedBy>kgonzales</cp:lastModifiedBy>
  <dcterms:modified xsi:type="dcterms:W3CDTF">2008-03-14T21:26:59Z</dcterms:modified>
  <cp:revision>14</cp:revision>
  <dc:subject/>
  <dc:title>Arizona </dc:title>
</cp:coreProperties>
</file>